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C89-4E8A-4088-AD2B-FC2F4834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EA0-D81A-497B-A385-33CDB01D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409-1EBC-4B41-B48A-10D42874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5CE-C0AB-476C-81DF-C3336381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10A-DBC0-4CDF-8572-CCBE8F75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B48-7EB0-474A-B9A5-E311B9BE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1CF-B926-40A0-B134-D561F08C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AA5-2A79-4533-BB04-9BC00150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0B1-3AB7-4681-85C3-0C1714C7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355-C222-49C8-8FA8-CB64BDE0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0A3-A482-4159-BDA7-93AE886B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C7C-66C5-4414-97EC-3ADD9E4F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9518-8836-4465-93F2-0BB0D76223C5}" type="datetime">
              <a:rPr b="0" lang="ru-RU" sz="1400" spc="-1" strike="noStrike">
                <a:solidFill>
                  <a:srgbClr val="333399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24492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&lt;footer&gt;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аконодательные и практические аспекты вывода на рынок лекарственных средств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19B4-2760-4A15-93CE-114C3A20762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58920" cy="1298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87280" y="1197000"/>
            <a:ext cx="1368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I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059560"/>
            <a:ext cx="80629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конодательные и практические аспекты вывода на рынок лекарственных средств в Российской Федерации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432400"/>
            <a:ext cx="6400800" cy="13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лександра Киташо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уководитель отдела регуляторных отношений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GlaxoSmithKlin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08440" y="0"/>
            <a:ext cx="4449960" cy="623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то такое вывод на рынок лекарственных средств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конодательная база для регистраци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актические аспекты регистраци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сле регистрации: поддержание лекарственного средства в течение его срока жизн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903-9C97-4CAC-8D61-8A849CDB98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6662F-67FD-4D8E-A94F-C98EC29139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гистрация – разрешение на жизнь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054080"/>
            <a:ext cx="8713800" cy="511164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сударственная регистрация лекарственных средств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ставляет собой государственную контрольно-надзорную функцию, исполняемую Федеральной службой по надзору в сфере здравоохранения и социального развития с целью допуска лекарственных средств к производству, импорту, продаже и применению на территории Российской Федер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осударственной регистрации подлежат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овые лекарственные средств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овые комбинации зарегистрированных ранее лекарственных средст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екарственные средства, зарегистрированные ранее, но произведенные в других лекарственных формах, с новой дозировкой или другим составом вспомогательных вещест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оспроизведенные лекарственные сред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AAA-2982-49C0-A0A5-73546F966CA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CB49D-0ED4-45F1-B1B5-894F7406F1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ействующее законодательство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Aft>
                <a:spcPts val="1250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кон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кон РФ «Основы законодательства РФ об охране здоровья граждан» №5487-1 22.07.1993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едеральный закон «О лекарственных средствах» №86-ФЗ 22.06.1998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едеральный закон «О наркотических средствах и психотропных веществах» №3-ФЗ 08.01.1998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едеральный закон «О техническом регулировании» №184-ФЗ 27.12.2002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едеральный закон «О санитарно-эпидемиологическом благополучии населе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№52-ФЗ 30.03.1999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едеральный закон «О лицензировании отдельных видов деятельности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№ 128-ФЗ 08.08.2001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едеральный закон «О защите прав потребителей» №2300-1 07.02.1992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Aft>
                <a:spcPts val="1001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едеральный закон «О рекламе» №38-ФЗ 13.03.2006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238-5544-4D42-A661-9750F08C9F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6EB2D-A7DB-4565-9ECF-5496D0CA9A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ействующее законодательство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1500"/>
              </a:spcAft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дминистративные регламенты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Aft>
                <a:spcPts val="1250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дминистративный регламент Федеральной службы по надзору в сфере здравоохранения и социального развития по исполнению государственной функции по организации проведения экспертизы качества, эффективности и безопасности лекарственных средств 30.11.2006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Aft>
                <a:spcPts val="1250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дминистративный регламент Федеральной службы по надзору в сфере здравоохранения и социального развития по исполнению государственной функции по государственной регистрации лекарственных средств 30.11.2006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07D-5827-494E-B1C0-D7013EB702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A34BF-564E-4B6E-99B0-09D296A044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ействующее законодательство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Aft>
                <a:spcPts val="1250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осударственная фармакопе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25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осударственная фармакопея, 1984 г.,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XI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изд., вып. 1, 2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25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осударственная фармакопея, 2008 г.,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XII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изд., часть 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250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 такж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25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становления Правительства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25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осударственные стандарты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25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раслевые стандарты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25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речни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25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иказы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25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етодические рекомендации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25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ндивидуальные нормативные документы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Aft>
                <a:spcPts val="1125"/>
              </a:spcAft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4CD-73F3-4728-968D-6597F05765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3F89E-664A-4771-AD2E-E27F36B277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гуляторные органы – экспертиза и регистрация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33560" y="1757520"/>
            <a:ext cx="6742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ерство здравоохранения и социального развития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477800" y="2133360"/>
            <a:ext cx="3827160" cy="4103640"/>
            <a:chOff x="1477800" y="2133360"/>
            <a:chExt cx="3827160" cy="4103640"/>
          </a:xfrm>
        </p:grpSpPr>
        <p:cxnSp>
          <p:nvCxnSpPr>
            <p:cNvPr id="62" name=""/>
            <p:cNvCxnSpPr>
              <a:stCxn id="60" idx="2"/>
              <a:endCxn id="63" idx="0"/>
            </p:cNvCxnSpPr>
            <p:nvPr/>
          </p:nvCxnSpPr>
          <p:spPr>
            <a:xfrm flipH="1">
              <a:off x="2974320" y="2133360"/>
              <a:ext cx="233100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3" name=""/>
            <p:cNvSpPr/>
            <p:nvPr/>
          </p:nvSpPr>
          <p:spPr>
            <a:xfrm>
              <a:off x="1484280" y="2565360"/>
              <a:ext cx="297972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едеральная служба по надзору в сфере здравоохранения и социального развит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77800" y="3552840"/>
              <a:ext cx="299592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едеральное государственное учреждение «Научный центр экспертизы средств медицинского применения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"/>
            <p:cNvCxnSpPr>
              <a:stCxn id="63" idx="2"/>
              <a:endCxn id="64" idx="0"/>
            </p:cNvCxnSpPr>
            <p:nvPr/>
          </p:nvCxnSpPr>
          <p:spPr>
            <a:xfrm>
              <a:off x="2975040" y="3305160"/>
              <a:ext cx="2160" cy="24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6" name=""/>
            <p:cNvSpPr/>
            <p:nvPr/>
          </p:nvSpPr>
          <p:spPr>
            <a:xfrm>
              <a:off x="1481040" y="4753080"/>
              <a:ext cx="2987640" cy="148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нститут стандартизации и контроля качества лекарственных средст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нститут доклинической и клинической экспертизы лекарственных средст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"/>
            <p:cNvCxnSpPr>
              <a:stCxn id="64" idx="2"/>
              <a:endCxn id="66" idx="0"/>
            </p:cNvCxnSpPr>
            <p:nvPr/>
          </p:nvCxnSpPr>
          <p:spPr>
            <a:xfrm flipH="1">
              <a:off x="2974680" y="4505400"/>
              <a:ext cx="2160" cy="24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8" name=""/>
          <p:cNvSpPr/>
          <p:nvPr/>
        </p:nvSpPr>
        <p:spPr>
          <a:xfrm>
            <a:off x="150840" y="2589120"/>
            <a:ext cx="1514520" cy="692280"/>
          </a:xfrm>
          <a:prstGeom prst="rightArrowCallout">
            <a:avLst>
              <a:gd name="adj1" fmla="val 25002"/>
              <a:gd name="adj2" fmla="val 25000"/>
              <a:gd name="adj3" fmla="val 36462"/>
              <a:gd name="adj4" fmla="val 6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0840" y="3470400"/>
            <a:ext cx="6003720" cy="2369880"/>
            <a:chOff x="150840" y="3470400"/>
            <a:chExt cx="6003720" cy="2369880"/>
          </a:xfrm>
        </p:grpSpPr>
        <p:sp>
          <p:nvSpPr>
            <p:cNvPr id="70" name=""/>
            <p:cNvSpPr/>
            <p:nvPr/>
          </p:nvSpPr>
          <p:spPr>
            <a:xfrm>
              <a:off x="150840" y="3683160"/>
              <a:ext cx="1514520" cy="691920"/>
            </a:xfrm>
            <a:prstGeom prst="rightArrowCallout">
              <a:avLst>
                <a:gd name="adj1" fmla="val 25002"/>
                <a:gd name="adj2" fmla="val 25000"/>
                <a:gd name="adj3" fmla="val 36481"/>
                <a:gd name="adj4" fmla="val 66667"/>
              </a:avLst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Экспертиз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0840" y="5148360"/>
              <a:ext cx="1514520" cy="691920"/>
            </a:xfrm>
            <a:prstGeom prst="rightArrowCallout">
              <a:avLst>
                <a:gd name="adj1" fmla="val 25002"/>
                <a:gd name="adj2" fmla="val 25000"/>
                <a:gd name="adj3" fmla="val 36481"/>
                <a:gd name="adj4" fmla="val 66667"/>
              </a:avLst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Экспертиз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0400" y="5110200"/>
              <a:ext cx="1514160" cy="692280"/>
            </a:xfrm>
            <a:prstGeom prst="rightArrowCallout">
              <a:avLst>
                <a:gd name="adj1" fmla="val 25002"/>
                <a:gd name="adj2" fmla="val 25000"/>
                <a:gd name="adj3" fmla="val 36453"/>
                <a:gd name="adj4" fmla="val 66667"/>
              </a:avLst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Экспертиз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40400" y="3470400"/>
              <a:ext cx="1514160" cy="691920"/>
            </a:xfrm>
            <a:prstGeom prst="rightArrowCallout">
              <a:avLst>
                <a:gd name="adj1" fmla="val 25002"/>
                <a:gd name="adj2" fmla="val 25000"/>
                <a:gd name="adj3" fmla="val 36472"/>
                <a:gd name="adj4" fmla="val 66667"/>
              </a:avLst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Экспертиз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305320" y="2133360"/>
            <a:ext cx="3665520" cy="3899880"/>
            <a:chOff x="5305320" y="2133360"/>
            <a:chExt cx="3665520" cy="3899880"/>
          </a:xfrm>
        </p:grpSpPr>
        <p:cxnSp>
          <p:nvCxnSpPr>
            <p:cNvPr id="75" name=""/>
            <p:cNvCxnSpPr>
              <a:stCxn id="60" idx="2"/>
              <a:endCxn id="76" idx="0"/>
            </p:cNvCxnSpPr>
            <p:nvPr/>
          </p:nvCxnSpPr>
          <p:spPr>
            <a:xfrm>
              <a:off x="5305320" y="2133360"/>
              <a:ext cx="2169360" cy="120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" name=""/>
            <p:cNvSpPr/>
            <p:nvPr/>
          </p:nvSpPr>
          <p:spPr>
            <a:xfrm>
              <a:off x="5983200" y="3340080"/>
              <a:ext cx="297972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едеральная служба по надзору в сфере защиты прав потребителей и благополучия челове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75280" y="4873680"/>
              <a:ext cx="2995560" cy="115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осударственный научно-исследовательский институт стандартизации и контроля медицинских биологических препаратов им. Л.А. Тарасевич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6" idx="2"/>
              <a:endCxn id="77" idx="0"/>
            </p:cNvCxnSpPr>
            <p:nvPr/>
          </p:nvCxnSpPr>
          <p:spPr>
            <a:xfrm>
              <a:off x="7473600" y="4292640"/>
              <a:ext cx="1080" cy="58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F57-A39A-449D-B01E-838CD9C1272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7C022-2F17-489B-9C2B-E78C9148CE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гистрационное дось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628640"/>
            <a:ext cx="4427640" cy="22251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дминистративные док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явление о государственной регистрации Л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веренность на представление документов и данных для государственной регист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ументы, подтверждающие регистрацию ЛС, если оно зарегистрировано вне пределов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ументы, характеризующие систему управления качеством производ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тификат качества Л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08360" y="1628640"/>
            <a:ext cx="4427640" cy="2438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дения о лекарственном средстве: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игинальное название ЛС, международное непатентованное наз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ецификации ЛС, нормы и допустимые пределы отклон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ы контроля качества ЛС, аналитические процед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е о стаби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е о производ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е об упаковке, макеты упак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3933720"/>
            <a:ext cx="4427640" cy="2012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дения о лекарственном средстве: эффективность и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рукция по применению лекарственного сре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едения о результатах доклинических фармакологических, фармакокинетических и токсикологически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едения о результатах клинических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08360" y="4149720"/>
            <a:ext cx="4427640" cy="1159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карственного сре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ндартных (референсных)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бораторное оборуд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7DC-032E-40B8-AEC9-80EF0A48EDE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4FC28-201A-4E45-BDB1-945A26690E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заключение...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3176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 выво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овых лекарственных средств на ры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3751200"/>
            <a:ext cx="20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 поддержании присутствия лекарственных средств на ры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3174840"/>
            <a:ext cx="1727280" cy="1079640"/>
          </a:xfrm>
          <a:custGeom>
            <a:avLst/>
            <a:gdLst>
              <a:gd name="textAreaLeft" fmla="*/ 269640 w 1727280"/>
              <a:gd name="textAreaRight" fmla="*/ 1511640 w 172728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2774880"/>
            <a:ext cx="417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гистрация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еспечение соответствия процедур и продукции фармацевтического производителя требованиям российского законодательства и корпоративным стандар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EB2-B204-4D28-9F08-FACCD980D89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E3770-A8EF-491C-BAE6-ACC2094B02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4:46:20Z</dcterms:created>
  <dc:creator>Alexandra Kitashova</dc:creator>
  <dc:description/>
  <dc:language>en-US</dc:language>
  <cp:lastModifiedBy>lazarev</cp:lastModifiedBy>
  <dcterms:modified xsi:type="dcterms:W3CDTF">2009-11-12T15:22:56Z</dcterms:modified>
  <cp:revision>35</cp:revision>
  <dc:subject/>
  <dc:title>Законодательные и практические аспекты вывода на рынок лекарственных средств в Российской Федерации </dc:title>
</cp:coreProperties>
</file>