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2068-E574-4343-91E5-692CB36EE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6D55-E418-4519-85D2-FA0C7DD19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1C7-837C-45F0-B58B-C654B0D0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8B51-34AB-495C-BA60-E19494A8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AD2-3726-4F35-AF7E-21ABFE91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454E-83EB-4CDC-A96C-1D092EB7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C2B-5654-4A88-9D0C-F927BBA0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7C9-D858-47FD-9949-C215ABDF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028-32F1-48FC-8F7F-4A1865B4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D6E0-D921-4339-80DE-85C56B27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80720" y="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4B3E-EFFE-4C91-B961-5322522C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17D-123D-4921-9983-3E3386C1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175-6FCE-4F4F-A188-8AA130E6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4ED0-4A6F-48C0-B17B-3D3C7D75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0403-936E-465F-89E4-DF856B41B0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58920" cy="1298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04920" y="114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I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54380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Клинические исследования как неотъемлемый компонент создания инновационных лекарственных средств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45720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лександр Андреев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ректор по клиническим исследованиям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аборатории Сервье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14FE-9EE0-415B-945D-616329B364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ключение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И – неотъемлемый и важный этап создания ЛС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рганизация КИ регламентируется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авилами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CH GCP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/ Надлежащей Клинической Практики в РФ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ормативными требованиями в каждой стране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тандартными Операционными Процедурами спонсора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новные задачи участников КИ - обеспечить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облюдение прав и благополучие пациентов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остоверность и точность данных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ольше всего КИ проводится в США и Европейском Союзе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оссия – привлекательная страна для проведения КИ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F3A-948C-4BCA-8E95-77411C4830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9040" y="5854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7320" y="5854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8960000">
            <a:off x="374400" y="1595520"/>
            <a:ext cx="2338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Times New Roman"/>
              </a:rPr>
              <a:t>Patent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4280" y="4403880"/>
            <a:ext cx="3245040" cy="4824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71920" y="4403880"/>
            <a:ext cx="1111320" cy="4824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95840" y="4403880"/>
            <a:ext cx="2330280" cy="482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39080" y="4403880"/>
            <a:ext cx="1834920" cy="4824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6080" y="4454640"/>
            <a:ext cx="1917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 medicinal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840" y="489744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27080" y="488304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65440" y="48927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9200" y="488304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32600" y="487368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3320" y="515448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8360" y="5154480"/>
            <a:ext cx="762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54680" y="5154480"/>
            <a:ext cx="86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69360" y="5154480"/>
            <a:ext cx="86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81720" y="5154480"/>
            <a:ext cx="13474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Times New Roman"/>
              </a:rPr>
              <a:t>2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Times New Roman"/>
              </a:rPr>
              <a:t>Patent expi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26880" y="2959200"/>
            <a:ext cx="0" cy="142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26880" y="2487600"/>
            <a:ext cx="466920" cy="46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89040" y="3063600"/>
            <a:ext cx="0" cy="132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84360" y="2668320"/>
            <a:ext cx="39024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9080000">
            <a:off x="802800" y="2173320"/>
            <a:ext cx="1338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cute toxi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074600" y="3250800"/>
            <a:ext cx="0" cy="11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069920" y="2935080"/>
            <a:ext cx="31428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9020000">
            <a:off x="1127880" y="2416320"/>
            <a:ext cx="1355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harmac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555920" y="3298680"/>
            <a:ext cx="0" cy="11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547640" y="3041640"/>
            <a:ext cx="26208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900000">
            <a:off x="1530720" y="2429280"/>
            <a:ext cx="1508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hronic toxi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241720" y="3327480"/>
            <a:ext cx="0" cy="10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241720" y="2971800"/>
            <a:ext cx="34920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9020000">
            <a:off x="3065400" y="2433240"/>
            <a:ext cx="142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Clinical t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565440" y="3679560"/>
            <a:ext cx="0" cy="70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560760" y="3421080"/>
            <a:ext cx="25704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9140000">
            <a:off x="3582360" y="2971800"/>
            <a:ext cx="1175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936960" y="383688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936960" y="3587760"/>
            <a:ext cx="25704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200000">
            <a:off x="4034160" y="3260880"/>
            <a:ext cx="59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303800" y="397980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299120" y="3726000"/>
            <a:ext cx="25704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080000">
            <a:off x="4233960" y="3116160"/>
            <a:ext cx="146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imburs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689360" y="4041720"/>
            <a:ext cx="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9360" y="3782520"/>
            <a:ext cx="257400" cy="2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9200000">
            <a:off x="4631760" y="3114720"/>
            <a:ext cx="1737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harmacovigi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19880" y="5154480"/>
            <a:ext cx="19324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supplemen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tection certific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x. + 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4880" y="5370480"/>
            <a:ext cx="2997360" cy="709560"/>
          </a:xfrm>
          <a:custGeom>
            <a:avLst/>
            <a:gdLst/>
            <a:ahLst/>
            <a:rect l="l" t="t" r="r" b="b"/>
            <a:pathLst>
              <a:path w="1888" h="447">
                <a:moveTo>
                  <a:pt x="1198" y="105"/>
                </a:moveTo>
                <a:lnTo>
                  <a:pt x="0" y="105"/>
                </a:lnTo>
                <a:lnTo>
                  <a:pt x="0" y="340"/>
                </a:lnTo>
                <a:lnTo>
                  <a:pt x="1234" y="340"/>
                </a:lnTo>
                <a:lnTo>
                  <a:pt x="1234" y="446"/>
                </a:lnTo>
                <a:lnTo>
                  <a:pt x="1887" y="227"/>
                </a:lnTo>
                <a:lnTo>
                  <a:pt x="1198" y="0"/>
                </a:lnTo>
                <a:lnTo>
                  <a:pt x="1198" y="105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2840" y="5573880"/>
            <a:ext cx="1809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 years of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5321160"/>
            <a:ext cx="1143000" cy="709920"/>
          </a:xfrm>
          <a:custGeom>
            <a:avLst/>
            <a:gdLst/>
            <a:ahLst/>
            <a:rect l="l" t="t" r="r" b="b"/>
            <a:pathLst>
              <a:path w="1007" h="447">
                <a:moveTo>
                  <a:pt x="639" y="105"/>
                </a:moveTo>
                <a:lnTo>
                  <a:pt x="0" y="105"/>
                </a:lnTo>
                <a:lnTo>
                  <a:pt x="0" y="340"/>
                </a:lnTo>
                <a:lnTo>
                  <a:pt x="658" y="340"/>
                </a:lnTo>
                <a:lnTo>
                  <a:pt x="658" y="446"/>
                </a:lnTo>
                <a:lnTo>
                  <a:pt x="1006" y="227"/>
                </a:lnTo>
                <a:lnTo>
                  <a:pt x="639" y="0"/>
                </a:lnTo>
                <a:lnTo>
                  <a:pt x="639" y="105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6160" y="5948280"/>
            <a:ext cx="2604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 to 3 years of administ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680000">
            <a:off x="329400" y="1300680"/>
            <a:ext cx="6404040" cy="307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28" y="1"/>
                </a:moveTo>
                <a:arcTo wR="10800" hR="10800" stAng="-5359097" swAng="5362643"/>
                <a:lnTo>
                  <a:pt x="10800" y="10800"/>
                </a:lnTo>
                <a:close/>
              </a:path>
              <a:path fill="none" w="21600" h="21600">
                <a:moveTo>
                  <a:pt x="10928" y="1"/>
                </a:moveTo>
                <a:arcTo wR="10800" hR="10800" stAng="-5359097" swAng="5362643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20" y="6324480"/>
            <a:ext cx="3742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ource : « Recherche &amp; Vie », LIM (AG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32520" y="-22860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522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Жизненный цикл Л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8366000">
            <a:off x="3031920" y="2634840"/>
            <a:ext cx="228600" cy="121896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DB5-34A7-462D-B5CA-C1D1C8F1A87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5120" y="-140040"/>
            <a:ext cx="72388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оимость разработки нового ЛС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28600" y="6248520"/>
            <a:ext cx="1053720" cy="394560"/>
            <a:chOff x="228600" y="6248520"/>
            <a:chExt cx="1053720" cy="394560"/>
          </a:xfrm>
        </p:grpSpPr>
        <p:sp>
          <p:nvSpPr>
            <p:cNvPr id="108" name=""/>
            <p:cNvSpPr/>
            <p:nvPr/>
          </p:nvSpPr>
          <p:spPr>
            <a:xfrm>
              <a:off x="441720" y="6554520"/>
              <a:ext cx="260640" cy="3600"/>
            </a:xfrm>
            <a:custGeom>
              <a:avLst/>
              <a:gdLst/>
              <a:ahLst/>
              <a:rect l="l" t="t" r="r" b="b"/>
              <a:pathLst>
                <a:path w="172" h="3">
                  <a:moveTo>
                    <a:pt x="171" y="0"/>
                  </a:moveTo>
                  <a:lnTo>
                    <a:pt x="168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17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0360" y="6601680"/>
              <a:ext cx="122400" cy="4320"/>
            </a:xfrm>
            <a:custGeom>
              <a:avLst/>
              <a:gdLst/>
              <a:ahLst/>
              <a:rect l="l" t="t" r="r" b="b"/>
              <a:pathLst>
                <a:path w="81" h="4">
                  <a:moveTo>
                    <a:pt x="80" y="0"/>
                  </a:moveTo>
                  <a:lnTo>
                    <a:pt x="77" y="3"/>
                  </a:lnTo>
                  <a:lnTo>
                    <a:pt x="8" y="3"/>
                  </a:lnTo>
                  <a:lnTo>
                    <a:pt x="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65760" y="6589800"/>
              <a:ext cx="2880" cy="43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2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39840" y="6600240"/>
              <a:ext cx="1440" cy="32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64320" y="6535800"/>
              <a:ext cx="432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3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79440" y="6547680"/>
              <a:ext cx="28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79440" y="6565320"/>
              <a:ext cx="288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39840" y="6577920"/>
              <a:ext cx="4320" cy="3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44520" y="6576840"/>
              <a:ext cx="28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49200" y="6559200"/>
              <a:ext cx="5760" cy="32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28600" y="6248520"/>
              <a:ext cx="1053360" cy="394560"/>
              <a:chOff x="228600" y="6248520"/>
              <a:chExt cx="1053360" cy="39456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228600" y="6458400"/>
                <a:ext cx="547920" cy="38520"/>
                <a:chOff x="228600" y="6458400"/>
                <a:chExt cx="547920" cy="385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28600" y="6459120"/>
                  <a:ext cx="546120" cy="36360"/>
                </a:xfrm>
                <a:custGeom>
                  <a:avLst/>
                  <a:gdLst/>
                  <a:ahLst/>
                  <a:rect l="l" t="t" r="r" b="b"/>
                  <a:pathLst>
                    <a:path w="361" h="31">
                      <a:moveTo>
                        <a:pt x="360" y="0"/>
                      </a:moveTo>
                      <a:lnTo>
                        <a:pt x="0" y="0"/>
                      </a:lnTo>
                      <a:lnTo>
                        <a:pt x="342" y="30"/>
                      </a:lnTo>
                      <a:lnTo>
                        <a:pt x="36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28600" y="6458400"/>
                  <a:ext cx="518760" cy="38520"/>
                </a:xfrm>
                <a:custGeom>
                  <a:avLst/>
                  <a:gdLst/>
                  <a:ahLst/>
                  <a:rect l="l" t="t" r="r" b="b"/>
                  <a:pathLst>
                    <a:path w="343" h="33">
                      <a:moveTo>
                        <a:pt x="0" y="2"/>
                      </a:move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341" y="30"/>
                      </a:lnTo>
                      <a:lnTo>
                        <a:pt x="342" y="32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28600" y="6458400"/>
                  <a:ext cx="547920" cy="1800"/>
                </a:xfrm>
                <a:custGeom>
                  <a:avLst/>
                  <a:gdLst/>
                  <a:ahLst/>
                  <a:rect l="l" t="t" r="r" b="b"/>
                  <a:pathLst>
                    <a:path w="362" h="2">
                      <a:moveTo>
                        <a:pt x="361" y="0"/>
                      </a:moveTo>
                      <a:lnTo>
                        <a:pt x="358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36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295200" y="6248520"/>
                <a:ext cx="986760" cy="394560"/>
                <a:chOff x="295200" y="6248520"/>
                <a:chExt cx="986760" cy="394560"/>
              </a:xfrm>
            </p:grpSpPr>
            <p:grpSp>
              <p:nvGrpSpPr>
                <p:cNvPr id="124" name=""/>
                <p:cNvGrpSpPr/>
                <p:nvPr/>
              </p:nvGrpSpPr>
              <p:grpSpPr>
                <a:xfrm>
                  <a:off x="741240" y="6533640"/>
                  <a:ext cx="90360" cy="109440"/>
                  <a:chOff x="741240" y="6533640"/>
                  <a:chExt cx="90360" cy="10944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742680" y="6534360"/>
                    <a:ext cx="889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92">
                        <a:moveTo>
                          <a:pt x="41" y="29"/>
                        </a:moveTo>
                        <a:lnTo>
                          <a:pt x="41" y="29"/>
                        </a:lnTo>
                        <a:lnTo>
                          <a:pt x="41" y="28"/>
                        </a:lnTo>
                        <a:lnTo>
                          <a:pt x="41" y="27"/>
                        </a:lnTo>
                        <a:lnTo>
                          <a:pt x="41" y="26"/>
                        </a:lnTo>
                        <a:lnTo>
                          <a:pt x="41" y="25"/>
                        </a:lnTo>
                        <a:lnTo>
                          <a:pt x="41" y="24"/>
                        </a:lnTo>
                        <a:lnTo>
                          <a:pt x="40" y="23"/>
                        </a:lnTo>
                        <a:lnTo>
                          <a:pt x="40" y="22"/>
                        </a:lnTo>
                        <a:lnTo>
                          <a:pt x="39" y="22"/>
                        </a:lnTo>
                        <a:lnTo>
                          <a:pt x="39" y="21"/>
                        </a:lnTo>
                        <a:lnTo>
                          <a:pt x="38" y="20"/>
                        </a:lnTo>
                        <a:lnTo>
                          <a:pt x="37" y="20"/>
                        </a:lnTo>
                        <a:lnTo>
                          <a:pt x="36" y="20"/>
                        </a:lnTo>
                        <a:lnTo>
                          <a:pt x="35" y="19"/>
                        </a:lnTo>
                        <a:lnTo>
                          <a:pt x="34" y="19"/>
                        </a:lnTo>
                        <a:lnTo>
                          <a:pt x="32" y="19"/>
                        </a:lnTo>
                        <a:lnTo>
                          <a:pt x="30" y="20"/>
                        </a:lnTo>
                        <a:lnTo>
                          <a:pt x="29" y="20"/>
                        </a:lnTo>
                        <a:lnTo>
                          <a:pt x="28" y="20"/>
                        </a:lnTo>
                        <a:lnTo>
                          <a:pt x="28" y="21"/>
                        </a:lnTo>
                        <a:lnTo>
                          <a:pt x="27" y="21"/>
                        </a:lnTo>
                        <a:lnTo>
                          <a:pt x="27" y="22"/>
                        </a:lnTo>
                        <a:lnTo>
                          <a:pt x="26" y="22"/>
                        </a:lnTo>
                        <a:lnTo>
                          <a:pt x="26" y="22"/>
                        </a:lnTo>
                        <a:lnTo>
                          <a:pt x="25" y="23"/>
                        </a:lnTo>
                        <a:lnTo>
                          <a:pt x="25" y="24"/>
                        </a:lnTo>
                        <a:lnTo>
                          <a:pt x="25" y="25"/>
                        </a:lnTo>
                        <a:lnTo>
                          <a:pt x="25" y="25"/>
                        </a:lnTo>
                        <a:lnTo>
                          <a:pt x="25" y="26"/>
                        </a:lnTo>
                        <a:lnTo>
                          <a:pt x="25" y="27"/>
                        </a:lnTo>
                        <a:lnTo>
                          <a:pt x="25" y="29"/>
                        </a:lnTo>
                        <a:lnTo>
                          <a:pt x="25" y="29"/>
                        </a:lnTo>
                        <a:lnTo>
                          <a:pt x="25" y="30"/>
                        </a:lnTo>
                        <a:lnTo>
                          <a:pt x="26" y="31"/>
                        </a:lnTo>
                        <a:lnTo>
                          <a:pt x="27" y="31"/>
                        </a:lnTo>
                        <a:lnTo>
                          <a:pt x="27" y="32"/>
                        </a:lnTo>
                        <a:lnTo>
                          <a:pt x="28" y="33"/>
                        </a:lnTo>
                        <a:lnTo>
                          <a:pt x="29" y="33"/>
                        </a:lnTo>
                        <a:lnTo>
                          <a:pt x="30" y="33"/>
                        </a:lnTo>
                        <a:lnTo>
                          <a:pt x="32" y="34"/>
                        </a:lnTo>
                        <a:lnTo>
                          <a:pt x="34" y="34"/>
                        </a:lnTo>
                        <a:lnTo>
                          <a:pt x="35" y="34"/>
                        </a:lnTo>
                        <a:lnTo>
                          <a:pt x="37" y="35"/>
                        </a:lnTo>
                        <a:lnTo>
                          <a:pt x="39" y="36"/>
                        </a:lnTo>
                        <a:lnTo>
                          <a:pt x="41" y="36"/>
                        </a:lnTo>
                        <a:lnTo>
                          <a:pt x="43" y="37"/>
                        </a:lnTo>
                        <a:lnTo>
                          <a:pt x="44" y="38"/>
                        </a:lnTo>
                        <a:lnTo>
                          <a:pt x="46" y="39"/>
                        </a:lnTo>
                        <a:lnTo>
                          <a:pt x="48" y="40"/>
                        </a:lnTo>
                        <a:lnTo>
                          <a:pt x="50" y="42"/>
                        </a:lnTo>
                        <a:lnTo>
                          <a:pt x="51" y="43"/>
                        </a:lnTo>
                        <a:lnTo>
                          <a:pt x="51" y="44"/>
                        </a:lnTo>
                        <a:lnTo>
                          <a:pt x="52" y="45"/>
                        </a:lnTo>
                        <a:lnTo>
                          <a:pt x="52" y="46"/>
                        </a:lnTo>
                        <a:lnTo>
                          <a:pt x="53" y="47"/>
                        </a:lnTo>
                        <a:lnTo>
                          <a:pt x="53" y="48"/>
                        </a:lnTo>
                        <a:lnTo>
                          <a:pt x="53" y="50"/>
                        </a:lnTo>
                        <a:lnTo>
                          <a:pt x="54" y="51"/>
                        </a:lnTo>
                        <a:lnTo>
                          <a:pt x="54" y="53"/>
                        </a:lnTo>
                        <a:lnTo>
                          <a:pt x="54" y="55"/>
                        </a:lnTo>
                        <a:lnTo>
                          <a:pt x="54" y="56"/>
                        </a:lnTo>
                        <a:lnTo>
                          <a:pt x="54" y="58"/>
                        </a:lnTo>
                        <a:lnTo>
                          <a:pt x="54" y="60"/>
                        </a:lnTo>
                        <a:lnTo>
                          <a:pt x="54" y="62"/>
                        </a:lnTo>
                        <a:lnTo>
                          <a:pt x="53" y="64"/>
                        </a:lnTo>
                        <a:lnTo>
                          <a:pt x="53" y="66"/>
                        </a:lnTo>
                        <a:lnTo>
                          <a:pt x="52" y="68"/>
                        </a:lnTo>
                        <a:lnTo>
                          <a:pt x="52" y="69"/>
                        </a:lnTo>
                        <a:lnTo>
                          <a:pt x="52" y="71"/>
                        </a:lnTo>
                        <a:lnTo>
                          <a:pt x="51" y="73"/>
                        </a:lnTo>
                        <a:lnTo>
                          <a:pt x="50" y="74"/>
                        </a:lnTo>
                        <a:lnTo>
                          <a:pt x="49" y="76"/>
                        </a:lnTo>
                        <a:lnTo>
                          <a:pt x="48" y="77"/>
                        </a:lnTo>
                        <a:lnTo>
                          <a:pt x="48" y="79"/>
                        </a:lnTo>
                        <a:lnTo>
                          <a:pt x="47" y="80"/>
                        </a:lnTo>
                        <a:lnTo>
                          <a:pt x="46" y="81"/>
                        </a:lnTo>
                        <a:lnTo>
                          <a:pt x="44" y="83"/>
                        </a:lnTo>
                        <a:lnTo>
                          <a:pt x="42" y="85"/>
                        </a:lnTo>
                        <a:lnTo>
                          <a:pt x="40" y="87"/>
                        </a:lnTo>
                        <a:lnTo>
                          <a:pt x="37" y="88"/>
                        </a:lnTo>
                        <a:lnTo>
                          <a:pt x="35" y="89"/>
                        </a:lnTo>
                        <a:lnTo>
                          <a:pt x="33" y="90"/>
                        </a:lnTo>
                        <a:lnTo>
                          <a:pt x="30" y="91"/>
                        </a:lnTo>
                        <a:lnTo>
                          <a:pt x="28" y="91"/>
                        </a:lnTo>
                        <a:lnTo>
                          <a:pt x="26" y="91"/>
                        </a:lnTo>
                        <a:lnTo>
                          <a:pt x="24" y="91"/>
                        </a:lnTo>
                        <a:lnTo>
                          <a:pt x="21" y="91"/>
                        </a:lnTo>
                        <a:lnTo>
                          <a:pt x="18" y="91"/>
                        </a:lnTo>
                        <a:lnTo>
                          <a:pt x="16" y="90"/>
                        </a:lnTo>
                        <a:lnTo>
                          <a:pt x="14" y="90"/>
                        </a:lnTo>
                        <a:lnTo>
                          <a:pt x="12" y="88"/>
                        </a:lnTo>
                        <a:lnTo>
                          <a:pt x="9" y="87"/>
                        </a:lnTo>
                        <a:lnTo>
                          <a:pt x="7" y="86"/>
                        </a:lnTo>
                        <a:lnTo>
                          <a:pt x="6" y="85"/>
                        </a:lnTo>
                        <a:lnTo>
                          <a:pt x="6" y="84"/>
                        </a:lnTo>
                        <a:lnTo>
                          <a:pt x="5" y="84"/>
                        </a:lnTo>
                        <a:lnTo>
                          <a:pt x="4" y="82"/>
                        </a:lnTo>
                        <a:lnTo>
                          <a:pt x="4" y="81"/>
                        </a:lnTo>
                        <a:lnTo>
                          <a:pt x="3" y="80"/>
                        </a:lnTo>
                        <a:lnTo>
                          <a:pt x="2" y="79"/>
                        </a:lnTo>
                        <a:lnTo>
                          <a:pt x="2" y="78"/>
                        </a:lnTo>
                        <a:lnTo>
                          <a:pt x="1" y="76"/>
                        </a:lnTo>
                        <a:lnTo>
                          <a:pt x="1" y="75"/>
                        </a:lnTo>
                        <a:lnTo>
                          <a:pt x="0" y="73"/>
                        </a:lnTo>
                        <a:lnTo>
                          <a:pt x="0" y="72"/>
                        </a:lnTo>
                        <a:lnTo>
                          <a:pt x="0" y="70"/>
                        </a:lnTo>
                        <a:lnTo>
                          <a:pt x="0" y="68"/>
                        </a:lnTo>
                        <a:lnTo>
                          <a:pt x="0" y="66"/>
                        </a:lnTo>
                        <a:lnTo>
                          <a:pt x="0" y="65"/>
                        </a:lnTo>
                        <a:lnTo>
                          <a:pt x="0" y="62"/>
                        </a:lnTo>
                        <a:lnTo>
                          <a:pt x="1" y="60"/>
                        </a:lnTo>
                        <a:lnTo>
                          <a:pt x="17" y="59"/>
                        </a:lnTo>
                        <a:lnTo>
                          <a:pt x="17" y="61"/>
                        </a:lnTo>
                        <a:lnTo>
                          <a:pt x="17" y="62"/>
                        </a:lnTo>
                        <a:lnTo>
                          <a:pt x="17" y="63"/>
                        </a:lnTo>
                        <a:lnTo>
                          <a:pt x="17" y="65"/>
                        </a:lnTo>
                        <a:lnTo>
                          <a:pt x="17" y="66"/>
                        </a:lnTo>
                        <a:lnTo>
                          <a:pt x="17" y="67"/>
                        </a:lnTo>
                        <a:lnTo>
                          <a:pt x="18" y="68"/>
                        </a:lnTo>
                        <a:lnTo>
                          <a:pt x="18" y="69"/>
                        </a:lnTo>
                        <a:lnTo>
                          <a:pt x="19" y="69"/>
                        </a:lnTo>
                        <a:lnTo>
                          <a:pt x="20" y="70"/>
                        </a:lnTo>
                        <a:lnTo>
                          <a:pt x="20" y="71"/>
                        </a:lnTo>
                        <a:lnTo>
                          <a:pt x="21" y="71"/>
                        </a:lnTo>
                        <a:lnTo>
                          <a:pt x="22" y="72"/>
                        </a:lnTo>
                        <a:lnTo>
                          <a:pt x="23" y="72"/>
                        </a:lnTo>
                        <a:lnTo>
                          <a:pt x="25" y="72"/>
                        </a:lnTo>
                        <a:lnTo>
                          <a:pt x="26" y="72"/>
                        </a:lnTo>
                        <a:lnTo>
                          <a:pt x="28" y="72"/>
                        </a:lnTo>
                        <a:lnTo>
                          <a:pt x="29" y="72"/>
                        </a:lnTo>
                        <a:lnTo>
                          <a:pt x="31" y="71"/>
                        </a:lnTo>
                        <a:lnTo>
                          <a:pt x="32" y="71"/>
                        </a:lnTo>
                        <a:lnTo>
                          <a:pt x="33" y="70"/>
                        </a:lnTo>
                        <a:lnTo>
                          <a:pt x="33" y="70"/>
                        </a:lnTo>
                        <a:lnTo>
                          <a:pt x="34" y="69"/>
                        </a:lnTo>
                        <a:lnTo>
                          <a:pt x="35" y="69"/>
                        </a:lnTo>
                        <a:lnTo>
                          <a:pt x="35" y="68"/>
                        </a:lnTo>
                        <a:lnTo>
                          <a:pt x="35" y="67"/>
                        </a:lnTo>
                        <a:lnTo>
                          <a:pt x="36" y="66"/>
                        </a:lnTo>
                        <a:lnTo>
                          <a:pt x="36" y="65"/>
                        </a:lnTo>
                        <a:lnTo>
                          <a:pt x="36" y="64"/>
                        </a:lnTo>
                        <a:lnTo>
                          <a:pt x="36" y="63"/>
                        </a:lnTo>
                        <a:lnTo>
                          <a:pt x="36" y="62"/>
                        </a:lnTo>
                        <a:lnTo>
                          <a:pt x="36" y="62"/>
                        </a:lnTo>
                        <a:lnTo>
                          <a:pt x="35" y="61"/>
                        </a:lnTo>
                        <a:lnTo>
                          <a:pt x="35" y="60"/>
                        </a:lnTo>
                        <a:lnTo>
                          <a:pt x="35" y="60"/>
                        </a:lnTo>
                        <a:lnTo>
                          <a:pt x="35" y="59"/>
                        </a:lnTo>
                        <a:lnTo>
                          <a:pt x="34" y="58"/>
                        </a:lnTo>
                        <a:lnTo>
                          <a:pt x="34" y="58"/>
                        </a:lnTo>
                        <a:lnTo>
                          <a:pt x="32" y="57"/>
                        </a:lnTo>
                        <a:lnTo>
                          <a:pt x="31" y="57"/>
                        </a:lnTo>
                        <a:lnTo>
                          <a:pt x="30" y="56"/>
                        </a:lnTo>
                        <a:lnTo>
                          <a:pt x="28" y="56"/>
                        </a:lnTo>
                        <a:lnTo>
                          <a:pt x="27" y="55"/>
                        </a:lnTo>
                        <a:lnTo>
                          <a:pt x="25" y="55"/>
                        </a:lnTo>
                        <a:lnTo>
                          <a:pt x="23" y="54"/>
                        </a:lnTo>
                        <a:lnTo>
                          <a:pt x="20" y="53"/>
                        </a:lnTo>
                        <a:lnTo>
                          <a:pt x="18" y="52"/>
                        </a:lnTo>
                        <a:lnTo>
                          <a:pt x="16" y="51"/>
                        </a:lnTo>
                        <a:lnTo>
                          <a:pt x="14" y="50"/>
                        </a:lnTo>
                        <a:lnTo>
                          <a:pt x="13" y="49"/>
                        </a:lnTo>
                        <a:lnTo>
                          <a:pt x="12" y="48"/>
                        </a:lnTo>
                        <a:lnTo>
                          <a:pt x="11" y="47"/>
                        </a:lnTo>
                        <a:lnTo>
                          <a:pt x="10" y="46"/>
                        </a:lnTo>
                        <a:lnTo>
                          <a:pt x="10" y="45"/>
                        </a:lnTo>
                        <a:lnTo>
                          <a:pt x="9" y="44"/>
                        </a:lnTo>
                        <a:lnTo>
                          <a:pt x="8" y="42"/>
                        </a:lnTo>
                        <a:lnTo>
                          <a:pt x="8" y="41"/>
                        </a:lnTo>
                        <a:lnTo>
                          <a:pt x="7" y="39"/>
                        </a:lnTo>
                        <a:lnTo>
                          <a:pt x="7" y="38"/>
                        </a:lnTo>
                        <a:lnTo>
                          <a:pt x="7" y="36"/>
                        </a:lnTo>
                        <a:lnTo>
                          <a:pt x="7" y="34"/>
                        </a:lnTo>
                        <a:lnTo>
                          <a:pt x="7" y="33"/>
                        </a:lnTo>
                        <a:lnTo>
                          <a:pt x="7" y="31"/>
                        </a:lnTo>
                        <a:lnTo>
                          <a:pt x="7" y="29"/>
                        </a:lnTo>
                        <a:lnTo>
                          <a:pt x="7" y="28"/>
                        </a:lnTo>
                        <a:lnTo>
                          <a:pt x="7" y="26"/>
                        </a:lnTo>
                        <a:lnTo>
                          <a:pt x="8" y="24"/>
                        </a:lnTo>
                        <a:lnTo>
                          <a:pt x="8" y="22"/>
                        </a:lnTo>
                        <a:lnTo>
                          <a:pt x="9" y="21"/>
                        </a:lnTo>
                        <a:lnTo>
                          <a:pt x="10" y="19"/>
                        </a:lnTo>
                        <a:lnTo>
                          <a:pt x="10" y="18"/>
                        </a:lnTo>
                        <a:lnTo>
                          <a:pt x="12" y="15"/>
                        </a:lnTo>
                        <a:lnTo>
                          <a:pt x="13" y="12"/>
                        </a:lnTo>
                        <a:lnTo>
                          <a:pt x="15" y="10"/>
                        </a:lnTo>
                        <a:lnTo>
                          <a:pt x="17" y="8"/>
                        </a:lnTo>
                        <a:lnTo>
                          <a:pt x="19" y="6"/>
                        </a:lnTo>
                        <a:lnTo>
                          <a:pt x="21" y="5"/>
                        </a:lnTo>
                        <a:lnTo>
                          <a:pt x="23" y="4"/>
                        </a:lnTo>
                        <a:lnTo>
                          <a:pt x="25" y="2"/>
                        </a:lnTo>
                        <a:lnTo>
                          <a:pt x="27" y="1"/>
                        </a:lnTo>
                        <a:lnTo>
                          <a:pt x="29" y="1"/>
                        </a:lnTo>
                        <a:lnTo>
                          <a:pt x="31" y="0"/>
                        </a:lnTo>
                        <a:lnTo>
                          <a:pt x="33" y="0"/>
                        </a:lnTo>
                        <a:lnTo>
                          <a:pt x="35" y="0"/>
                        </a:lnTo>
                        <a:lnTo>
                          <a:pt x="37" y="0"/>
                        </a:lnTo>
                        <a:lnTo>
                          <a:pt x="40" y="0"/>
                        </a:lnTo>
                        <a:lnTo>
                          <a:pt x="42" y="1"/>
                        </a:lnTo>
                        <a:lnTo>
                          <a:pt x="44" y="1"/>
                        </a:lnTo>
                        <a:lnTo>
                          <a:pt x="46" y="2"/>
                        </a:lnTo>
                        <a:lnTo>
                          <a:pt x="48" y="3"/>
                        </a:lnTo>
                        <a:lnTo>
                          <a:pt x="50" y="4"/>
                        </a:lnTo>
                        <a:lnTo>
                          <a:pt x="52" y="6"/>
                        </a:lnTo>
                        <a:lnTo>
                          <a:pt x="54" y="8"/>
                        </a:lnTo>
                        <a:lnTo>
                          <a:pt x="54" y="9"/>
                        </a:lnTo>
                        <a:lnTo>
                          <a:pt x="55" y="10"/>
                        </a:lnTo>
                        <a:lnTo>
                          <a:pt x="56" y="11"/>
                        </a:lnTo>
                        <a:lnTo>
                          <a:pt x="56" y="12"/>
                        </a:lnTo>
                        <a:lnTo>
                          <a:pt x="57" y="13"/>
                        </a:lnTo>
                        <a:lnTo>
                          <a:pt x="57" y="15"/>
                        </a:lnTo>
                        <a:lnTo>
                          <a:pt x="57" y="16"/>
                        </a:lnTo>
                        <a:lnTo>
                          <a:pt x="58" y="18"/>
                        </a:lnTo>
                        <a:lnTo>
                          <a:pt x="58" y="19"/>
                        </a:lnTo>
                        <a:lnTo>
                          <a:pt x="58" y="21"/>
                        </a:lnTo>
                        <a:lnTo>
                          <a:pt x="58" y="22"/>
                        </a:lnTo>
                        <a:lnTo>
                          <a:pt x="58" y="24"/>
                        </a:lnTo>
                        <a:lnTo>
                          <a:pt x="58" y="26"/>
                        </a:lnTo>
                        <a:lnTo>
                          <a:pt x="58" y="28"/>
                        </a:lnTo>
                        <a:lnTo>
                          <a:pt x="41" y="2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803160" y="6567480"/>
                    <a:ext cx="288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803160" y="6566040"/>
                    <a:ext cx="1440" cy="1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803160" y="6564960"/>
                    <a:ext cx="2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803160" y="6563880"/>
                    <a:ext cx="2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03160" y="6562800"/>
                    <a:ext cx="2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803160" y="6560280"/>
                    <a:ext cx="28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01720" y="655920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1"/>
                        </a:move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99920" y="6558120"/>
                    <a:ext cx="46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2" y="1"/>
                        </a:moveTo>
                        <a:lnTo>
                          <a:pt x="1" y="3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99920" y="655812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0"/>
                        </a:move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99920" y="655668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">
                        <a:moveTo>
                          <a:pt x="0" y="1"/>
                        </a:move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98480" y="655668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0"/>
                        </a:move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794160" y="6556680"/>
                    <a:ext cx="5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3" y="0"/>
                        </a:moveTo>
                        <a:lnTo>
                          <a:pt x="3" y="2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794160" y="6555600"/>
                    <a:ext cx="10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792360" y="655560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0"/>
                        </a:move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790920" y="655560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0"/>
                        </a:move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788040" y="655560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0"/>
                        </a:move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786600" y="655668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0"/>
                        </a:move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783360" y="655668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1" y="0"/>
                        </a:move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783360" y="655668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0"/>
                        </a:move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1920" y="655812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0"/>
                        </a:move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781920" y="655812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0"/>
                        </a:move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781920" y="6558120"/>
                    <a:ext cx="14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780480" y="655920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0"/>
                        </a:move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779040" y="6560280"/>
                    <a:ext cx="43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0"/>
                        </a:move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779040" y="6561720"/>
                    <a:ext cx="43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1" y="0"/>
                        </a:move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779040" y="656172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1" y="0"/>
                        </a:move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779040" y="6562800"/>
                    <a:ext cx="25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779040" y="6563880"/>
                    <a:ext cx="25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779040" y="6564960"/>
                    <a:ext cx="25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79040" y="6566040"/>
                    <a:ext cx="25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779040" y="656748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79040" y="6568560"/>
                    <a:ext cx="43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80480" y="6570000"/>
                    <a:ext cx="2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781920" y="6570000"/>
                    <a:ext cx="1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81920" y="6570000"/>
                    <a:ext cx="28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781920" y="657072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783360" y="6570720"/>
                    <a:ext cx="43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784800" y="6571800"/>
                    <a:ext cx="46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786600" y="6573240"/>
                    <a:ext cx="5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90920" y="657324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790920" y="657324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794160" y="6573240"/>
                    <a:ext cx="576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798480" y="657432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99920" y="6574320"/>
                    <a:ext cx="6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804600" y="6575760"/>
                    <a:ext cx="25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806040" y="6576840"/>
                    <a:ext cx="43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2" y="1"/>
                        </a:lnTo>
                        <a:lnTo>
                          <a:pt x="2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807480" y="6577920"/>
                    <a:ext cx="6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810720" y="6579000"/>
                    <a:ext cx="6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813600" y="6581520"/>
                    <a:ext cx="612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818280" y="6582600"/>
                    <a:ext cx="2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818280" y="658404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819720" y="6585840"/>
                    <a:ext cx="2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819720" y="6585840"/>
                    <a:ext cx="2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821160" y="658728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821160" y="658980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821160" y="659088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821160" y="6593040"/>
                    <a:ext cx="61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821160" y="6594120"/>
                    <a:ext cx="61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822960" y="6596640"/>
                    <a:ext cx="43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822960" y="6597720"/>
                    <a:ext cx="43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822960" y="660024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822960" y="6601320"/>
                    <a:ext cx="432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2" y="1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821160" y="6604920"/>
                    <a:ext cx="61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1" y="0"/>
                        </a:moveTo>
                        <a:lnTo>
                          <a:pt x="3" y="0"/>
                        </a:lnTo>
                        <a:lnTo>
                          <a:pt x="3" y="2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821160" y="6606000"/>
                    <a:ext cx="6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1" y="0"/>
                        </a:move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0" y="3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821160" y="660960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821160" y="6610680"/>
                    <a:ext cx="2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819720" y="6613200"/>
                    <a:ext cx="28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819720" y="661536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18280" y="6617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1" y="0"/>
                        </a:move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818280" y="6618960"/>
                    <a:ext cx="28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815040" y="6621480"/>
                    <a:ext cx="46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1" y="0"/>
                        </a:move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813600" y="6622560"/>
                    <a:ext cx="6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1" y="0"/>
                        </a:move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812160" y="662472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1" y="0"/>
                        </a:move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812160" y="6625800"/>
                    <a:ext cx="25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810720" y="6627240"/>
                    <a:ext cx="28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0"/>
                        </a:move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807480" y="6628320"/>
                    <a:ext cx="46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2" y="0"/>
                        </a:move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804600" y="6630480"/>
                    <a:ext cx="43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2" y="0"/>
                        </a:move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801720" y="6633000"/>
                    <a:ext cx="576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2" y="0"/>
                        </a:moveTo>
                        <a:lnTo>
                          <a:pt x="3" y="2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98480" y="6634080"/>
                    <a:ext cx="61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2" y="0"/>
                        </a:moveTo>
                        <a:lnTo>
                          <a:pt x="3" y="2"/>
                        </a:ln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794160" y="6636600"/>
                    <a:ext cx="5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3" y="0"/>
                        </a:moveTo>
                        <a:lnTo>
                          <a:pt x="3" y="2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90920" y="6637680"/>
                    <a:ext cx="43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0"/>
                        </a:moveTo>
                        <a:lnTo>
                          <a:pt x="2" y="1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788040" y="663876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0"/>
                        </a:moveTo>
                        <a:lnTo>
                          <a:pt x="2" y="1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84800" y="6638760"/>
                    <a:ext cx="46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2" y="0"/>
                        </a:moveTo>
                        <a:lnTo>
                          <a:pt x="2" y="2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781920" y="663984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0"/>
                        </a:move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79040" y="663984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0"/>
                        </a:move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72920" y="663984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4" y="0"/>
                        </a:moveTo>
                        <a:lnTo>
                          <a:pt x="4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69680" y="663984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0"/>
                        </a:move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766800" y="6638760"/>
                    <a:ext cx="46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2" y="1"/>
                        </a:moveTo>
                        <a:lnTo>
                          <a:pt x="2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62120" y="6638760"/>
                    <a:ext cx="61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3" y="0"/>
                        </a:moveTo>
                        <a:lnTo>
                          <a:pt x="3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761040" y="6636600"/>
                    <a:ext cx="43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2" y="1"/>
                        </a:moveTo>
                        <a:lnTo>
                          <a:pt x="2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754920" y="663660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4" y="1"/>
                        </a:moveTo>
                        <a:lnTo>
                          <a:pt x="4" y="2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4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751680" y="663408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2" y="1"/>
                        </a:moveTo>
                        <a:lnTo>
                          <a:pt x="2" y="3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50240" y="6633000"/>
                    <a:ext cx="432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2" y="1"/>
                        </a:moveTo>
                        <a:lnTo>
                          <a:pt x="2" y="3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48440" y="6631560"/>
                    <a:ext cx="46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1"/>
                        </a:move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47360" y="663048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1"/>
                        </a:move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45920" y="6628320"/>
                    <a:ext cx="43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2" y="1"/>
                        </a:moveTo>
                        <a:lnTo>
                          <a:pt x="1" y="3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45920" y="6628320"/>
                    <a:ext cx="25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44120" y="6625800"/>
                    <a:ext cx="43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2" y="1"/>
                        </a:move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42680" y="6624720"/>
                    <a:ext cx="432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2" y="2"/>
                        </a:moveTo>
                        <a:lnTo>
                          <a:pt x="1" y="3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742680" y="6623280"/>
                    <a:ext cx="43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1"/>
                        </a:move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42680" y="6621480"/>
                    <a:ext cx="432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2" y="2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42680" y="662004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2"/>
                        </a:move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742680" y="6617520"/>
                    <a:ext cx="10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">
                        <a:moveTo>
                          <a:pt x="0" y="2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741240" y="661644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2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741240" y="661428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2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741240" y="6611760"/>
                    <a:ext cx="28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2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41240" y="660960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2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41240" y="660708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2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42680" y="6603480"/>
                    <a:ext cx="10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">
                        <a:moveTo>
                          <a:pt x="0" y="3"/>
                        </a:move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42680" y="6602400"/>
                    <a:ext cx="27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">
                        <a:moveTo>
                          <a:pt x="1" y="3"/>
                        </a:moveTo>
                        <a:lnTo>
                          <a:pt x="0" y="1"/>
                        </a:lnTo>
                        <a:lnTo>
                          <a:pt x="17" y="0"/>
                        </a:lnTo>
                        <a:lnTo>
                          <a:pt x="16" y="1"/>
                        </a:lnTo>
                        <a:lnTo>
                          <a:pt x="16" y="2"/>
                        </a:lnTo>
                        <a:lnTo>
                          <a:pt x="1" y="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766800" y="6602400"/>
                    <a:ext cx="2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66800" y="6606000"/>
                    <a:ext cx="2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66800" y="660708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66800" y="6608160"/>
                    <a:ext cx="2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66800" y="660960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66800" y="661068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66800" y="6611760"/>
                    <a:ext cx="46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68600" y="661320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68600" y="661428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769680" y="6614280"/>
                    <a:ext cx="43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69680" y="661536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72920" y="661644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772920" y="661644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74360" y="6617520"/>
                    <a:ext cx="61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779040" y="6617520"/>
                    <a:ext cx="10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779040" y="6617520"/>
                    <a:ext cx="43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781920" y="6617520"/>
                    <a:ext cx="28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783360" y="6617520"/>
                    <a:ext cx="43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786600" y="6617520"/>
                    <a:ext cx="28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88040" y="661644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90920" y="6615360"/>
                    <a:ext cx="10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790920" y="661536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790920" y="6614280"/>
                    <a:ext cx="43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1" y="3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790920" y="661428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1" y="2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792360" y="661320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2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794160" y="6613200"/>
                    <a:ext cx="2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794160" y="6611760"/>
                    <a:ext cx="28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2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794160" y="6610680"/>
                    <a:ext cx="5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3" y="2"/>
                        </a:move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794160" y="6609600"/>
                    <a:ext cx="57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3" y="1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794160" y="6608160"/>
                    <a:ext cx="57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3" y="1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794160" y="6607080"/>
                    <a:ext cx="57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3" y="1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794160" y="6606000"/>
                    <a:ext cx="57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3" y="1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3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94160" y="6606000"/>
                    <a:ext cx="2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94160" y="6604920"/>
                    <a:ext cx="2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794160" y="6603480"/>
                    <a:ext cx="10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">
                        <a:moveTo>
                          <a:pt x="0" y="1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92360" y="660240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92360" y="6601320"/>
                    <a:ext cx="28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1" y="1"/>
                        </a:move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90920" y="660132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0"/>
                        </a:move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90920" y="660132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88040" y="660024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0"/>
                        </a:move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86600" y="659916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0"/>
                        </a:move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83360" y="6597720"/>
                    <a:ext cx="43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2" y="1"/>
                        </a:move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781920" y="65977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2" y="1"/>
                        </a:moveTo>
                        <a:lnTo>
                          <a:pt x="2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779040" y="6597720"/>
                    <a:ext cx="43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0"/>
                        </a:move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774360" y="6596640"/>
                    <a:ext cx="6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3" y="1"/>
                        </a:moveTo>
                        <a:lnTo>
                          <a:pt x="3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72920" y="6595560"/>
                    <a:ext cx="432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2" y="1"/>
                        </a:moveTo>
                        <a:lnTo>
                          <a:pt x="2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768600" y="6594120"/>
                    <a:ext cx="5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3" y="1"/>
                        </a:moveTo>
                        <a:lnTo>
                          <a:pt x="3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765360" y="6593040"/>
                    <a:ext cx="61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3" y="1"/>
                        </a:moveTo>
                        <a:lnTo>
                          <a:pt x="3" y="4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762120" y="6591960"/>
                    <a:ext cx="6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3" y="2"/>
                        </a:moveTo>
                        <a:lnTo>
                          <a:pt x="2" y="3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3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761040" y="659088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1"/>
                        </a:move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761040" y="6589800"/>
                    <a:ext cx="28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1" y="1"/>
                        </a:moveTo>
                        <a:lnTo>
                          <a:pt x="1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756360" y="6589800"/>
                    <a:ext cx="5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3" y="1"/>
                        </a:moveTo>
                        <a:lnTo>
                          <a:pt x="2" y="2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3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756360" y="6587280"/>
                    <a:ext cx="5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3" y="1"/>
                        </a:move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3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754920" y="6585840"/>
                    <a:ext cx="6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3" y="2"/>
                        </a:moveTo>
                        <a:lnTo>
                          <a:pt x="1" y="3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3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754920" y="658512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753480" y="658404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751680" y="6581520"/>
                    <a:ext cx="46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2" y="2"/>
                        </a:move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2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751680" y="6580080"/>
                    <a:ext cx="46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1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751680" y="6577920"/>
                    <a:ext cx="2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1" y="2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751680" y="657684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2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751680" y="657432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2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51680" y="6573240"/>
                    <a:ext cx="2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751680" y="657072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2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751680" y="656856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2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751680" y="6566040"/>
                    <a:ext cx="2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1" y="3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  <a:lnTo>
                          <a:pt x="1" y="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751680" y="6563880"/>
                    <a:ext cx="28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1" y="3"/>
                        </a:move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  <a:lnTo>
                          <a:pt x="1" y="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751680" y="6561720"/>
                    <a:ext cx="46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2" y="3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" y="1"/>
                        </a:lnTo>
                        <a:lnTo>
                          <a:pt x="2" y="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751680" y="6560280"/>
                    <a:ext cx="46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1" y="2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753480" y="6558120"/>
                    <a:ext cx="28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1" y="3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  <a:lnTo>
                          <a:pt x="1" y="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754920" y="6555600"/>
                    <a:ext cx="28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1" y="3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  <a:lnTo>
                          <a:pt x="1" y="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54920" y="6554520"/>
                    <a:ext cx="61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2" y="2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754920" y="6550920"/>
                    <a:ext cx="72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2" y="4"/>
                        </a:moveTo>
                        <a:lnTo>
                          <a:pt x="0" y="3"/>
                        </a:lnTo>
                        <a:lnTo>
                          <a:pt x="3" y="0"/>
                        </a:lnTo>
                        <a:lnTo>
                          <a:pt x="4" y="1"/>
                        </a:lnTo>
                        <a:lnTo>
                          <a:pt x="2" y="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761040" y="6547680"/>
                    <a:ext cx="43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1" y="4"/>
                        </a:moveTo>
                        <a:lnTo>
                          <a:pt x="0" y="3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61040" y="6545160"/>
                    <a:ext cx="57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1" y="4"/>
                        </a:move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3" y="2"/>
                        </a:lnTo>
                        <a:lnTo>
                          <a:pt x="1" y="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765360" y="6542640"/>
                    <a:ext cx="43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1" y="4"/>
                        </a:move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66800" y="6540480"/>
                    <a:ext cx="61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1" y="4"/>
                        </a:move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3" y="2"/>
                        </a:lnTo>
                        <a:lnTo>
                          <a:pt x="1" y="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769680" y="6539400"/>
                    <a:ext cx="43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3"/>
                        </a:move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772920" y="6536880"/>
                    <a:ext cx="72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4">
                        <a:moveTo>
                          <a:pt x="1" y="3"/>
                        </a:moveTo>
                        <a:lnTo>
                          <a:pt x="0" y="1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1" y="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776160" y="6535800"/>
                    <a:ext cx="576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3" y="2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780480" y="653580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83360" y="6534360"/>
                    <a:ext cx="43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786600" y="6533640"/>
                    <a:ext cx="43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789840" y="6533640"/>
                    <a:ext cx="25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790920" y="6533640"/>
                    <a:ext cx="43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794160" y="653364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798480" y="6533640"/>
                    <a:ext cx="61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803160" y="6533640"/>
                    <a:ext cx="43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2" y="1"/>
                        </a:lnTo>
                        <a:lnTo>
                          <a:pt x="2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806040" y="6534360"/>
                    <a:ext cx="43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807480" y="6535800"/>
                    <a:ext cx="61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5" name=""/>
                <p:cNvSpPr/>
                <p:nvPr/>
              </p:nvSpPr>
              <p:spPr>
                <a:xfrm>
                  <a:off x="538920" y="6601680"/>
                  <a:ext cx="93600" cy="38520"/>
                </a:xfrm>
                <a:custGeom>
                  <a:avLst/>
                  <a:gdLst/>
                  <a:ahLst/>
                  <a:rect l="l" t="t" r="r" b="b"/>
                  <a:pathLst>
                    <a:path w="62" h="33">
                      <a:moveTo>
                        <a:pt x="0" y="0"/>
                      </a:moveTo>
                      <a:lnTo>
                        <a:pt x="8" y="2"/>
                      </a:lnTo>
                      <a:lnTo>
                        <a:pt x="61" y="30"/>
                      </a:lnTo>
                      <a:lnTo>
                        <a:pt x="61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29280" y="6601680"/>
                  <a:ext cx="33120" cy="38520"/>
                </a:xfrm>
                <a:custGeom>
                  <a:avLst/>
                  <a:gdLst/>
                  <a:ahLst/>
                  <a:rect l="l" t="t" r="r" b="b"/>
                  <a:pathLst>
                    <a:path w="22" h="33">
                      <a:moveTo>
                        <a:pt x="0" y="32"/>
                      </a:moveTo>
                      <a:lnTo>
                        <a:pt x="0" y="30"/>
                      </a:lnTo>
                      <a:lnTo>
                        <a:pt x="18" y="2"/>
                      </a:lnTo>
                      <a:lnTo>
                        <a:pt x="21" y="0"/>
                      </a:lnTo>
                      <a:lnTo>
                        <a:pt x="0" y="3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188000" y="6535800"/>
                  <a:ext cx="93960" cy="101880"/>
                </a:xfrm>
                <a:custGeom>
                  <a:avLst/>
                  <a:gdLst/>
                  <a:ahLst/>
                  <a:rect l="l" t="t" r="r" b="b"/>
                  <a:pathLst>
                    <a:path w="62" h="87">
                      <a:moveTo>
                        <a:pt x="46" y="45"/>
                      </a:moveTo>
                      <a:lnTo>
                        <a:pt x="48" y="46"/>
                      </a:lnTo>
                      <a:lnTo>
                        <a:pt x="50" y="46"/>
                      </a:lnTo>
                      <a:lnTo>
                        <a:pt x="50" y="46"/>
                      </a:lnTo>
                      <a:lnTo>
                        <a:pt x="50" y="47"/>
                      </a:lnTo>
                      <a:lnTo>
                        <a:pt x="52" y="47"/>
                      </a:lnTo>
                      <a:lnTo>
                        <a:pt x="52" y="49"/>
                      </a:lnTo>
                      <a:lnTo>
                        <a:pt x="52" y="50"/>
                      </a:lnTo>
                      <a:lnTo>
                        <a:pt x="52" y="52"/>
                      </a:lnTo>
                      <a:lnTo>
                        <a:pt x="52" y="53"/>
                      </a:lnTo>
                      <a:lnTo>
                        <a:pt x="52" y="55"/>
                      </a:lnTo>
                      <a:lnTo>
                        <a:pt x="55" y="57"/>
                      </a:lnTo>
                      <a:lnTo>
                        <a:pt x="55" y="59"/>
                      </a:lnTo>
                      <a:lnTo>
                        <a:pt x="55" y="60"/>
                      </a:lnTo>
                      <a:lnTo>
                        <a:pt x="55" y="61"/>
                      </a:lnTo>
                      <a:lnTo>
                        <a:pt x="52" y="63"/>
                      </a:lnTo>
                      <a:lnTo>
                        <a:pt x="52" y="65"/>
                      </a:lnTo>
                      <a:lnTo>
                        <a:pt x="52" y="67"/>
                      </a:lnTo>
                      <a:lnTo>
                        <a:pt x="52" y="68"/>
                      </a:lnTo>
                      <a:lnTo>
                        <a:pt x="52" y="70"/>
                      </a:lnTo>
                      <a:lnTo>
                        <a:pt x="52" y="72"/>
                      </a:lnTo>
                      <a:lnTo>
                        <a:pt x="52" y="74"/>
                      </a:lnTo>
                      <a:lnTo>
                        <a:pt x="52" y="75"/>
                      </a:lnTo>
                      <a:lnTo>
                        <a:pt x="52" y="76"/>
                      </a:lnTo>
                      <a:lnTo>
                        <a:pt x="52" y="77"/>
                      </a:lnTo>
                      <a:lnTo>
                        <a:pt x="52" y="78"/>
                      </a:lnTo>
                      <a:lnTo>
                        <a:pt x="52" y="79"/>
                      </a:lnTo>
                      <a:lnTo>
                        <a:pt x="52" y="81"/>
                      </a:lnTo>
                      <a:lnTo>
                        <a:pt x="52" y="82"/>
                      </a:lnTo>
                      <a:lnTo>
                        <a:pt x="52" y="83"/>
                      </a:lnTo>
                      <a:lnTo>
                        <a:pt x="52" y="84"/>
                      </a:lnTo>
                      <a:lnTo>
                        <a:pt x="55" y="85"/>
                      </a:lnTo>
                      <a:lnTo>
                        <a:pt x="55" y="86"/>
                      </a:lnTo>
                      <a:lnTo>
                        <a:pt x="37" y="86"/>
                      </a:lnTo>
                      <a:lnTo>
                        <a:pt x="37" y="85"/>
                      </a:lnTo>
                      <a:lnTo>
                        <a:pt x="37" y="83"/>
                      </a:lnTo>
                      <a:lnTo>
                        <a:pt x="37" y="81"/>
                      </a:lnTo>
                      <a:lnTo>
                        <a:pt x="35" y="77"/>
                      </a:lnTo>
                      <a:lnTo>
                        <a:pt x="35" y="74"/>
                      </a:lnTo>
                      <a:lnTo>
                        <a:pt x="35" y="72"/>
                      </a:lnTo>
                      <a:lnTo>
                        <a:pt x="35" y="70"/>
                      </a:lnTo>
                      <a:lnTo>
                        <a:pt x="35" y="68"/>
                      </a:lnTo>
                      <a:lnTo>
                        <a:pt x="35" y="68"/>
                      </a:lnTo>
                      <a:lnTo>
                        <a:pt x="37" y="67"/>
                      </a:lnTo>
                      <a:lnTo>
                        <a:pt x="37" y="67"/>
                      </a:lnTo>
                      <a:lnTo>
                        <a:pt x="37" y="66"/>
                      </a:lnTo>
                      <a:lnTo>
                        <a:pt x="37" y="64"/>
                      </a:lnTo>
                      <a:lnTo>
                        <a:pt x="37" y="62"/>
                      </a:lnTo>
                      <a:lnTo>
                        <a:pt x="37" y="61"/>
                      </a:lnTo>
                      <a:lnTo>
                        <a:pt x="37" y="60"/>
                      </a:lnTo>
                      <a:lnTo>
                        <a:pt x="37" y="59"/>
                      </a:lnTo>
                      <a:lnTo>
                        <a:pt x="37" y="58"/>
                      </a:lnTo>
                      <a:lnTo>
                        <a:pt x="37" y="57"/>
                      </a:lnTo>
                      <a:lnTo>
                        <a:pt x="35" y="57"/>
                      </a:lnTo>
                      <a:lnTo>
                        <a:pt x="35" y="56"/>
                      </a:lnTo>
                      <a:lnTo>
                        <a:pt x="33" y="56"/>
                      </a:lnTo>
                      <a:lnTo>
                        <a:pt x="31" y="56"/>
                      </a:lnTo>
                      <a:lnTo>
                        <a:pt x="28" y="56"/>
                      </a:lnTo>
                      <a:lnTo>
                        <a:pt x="22" y="56"/>
                      </a:lnTo>
                      <a:lnTo>
                        <a:pt x="18" y="86"/>
                      </a:lnTo>
                      <a:lnTo>
                        <a:pt x="0" y="86"/>
                      </a:lnTo>
                      <a:lnTo>
                        <a:pt x="13" y="0"/>
                      </a:lnTo>
                      <a:lnTo>
                        <a:pt x="42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2" y="1"/>
                      </a:lnTo>
                      <a:lnTo>
                        <a:pt x="55" y="2"/>
                      </a:lnTo>
                      <a:lnTo>
                        <a:pt x="55" y="4"/>
                      </a:lnTo>
                      <a:lnTo>
                        <a:pt x="57" y="4"/>
                      </a:lnTo>
                      <a:lnTo>
                        <a:pt x="59" y="6"/>
                      </a:lnTo>
                      <a:lnTo>
                        <a:pt x="59" y="7"/>
                      </a:lnTo>
                      <a:lnTo>
                        <a:pt x="59" y="8"/>
                      </a:lnTo>
                      <a:lnTo>
                        <a:pt x="59" y="9"/>
                      </a:lnTo>
                      <a:lnTo>
                        <a:pt x="59" y="11"/>
                      </a:lnTo>
                      <a:lnTo>
                        <a:pt x="61" y="11"/>
                      </a:lnTo>
                      <a:lnTo>
                        <a:pt x="61" y="13"/>
                      </a:lnTo>
                      <a:lnTo>
                        <a:pt x="61" y="14"/>
                      </a:lnTo>
                      <a:lnTo>
                        <a:pt x="61" y="16"/>
                      </a:lnTo>
                      <a:lnTo>
                        <a:pt x="61" y="18"/>
                      </a:lnTo>
                      <a:lnTo>
                        <a:pt x="61" y="19"/>
                      </a:lnTo>
                      <a:lnTo>
                        <a:pt x="61" y="21"/>
                      </a:lnTo>
                      <a:lnTo>
                        <a:pt x="61" y="23"/>
                      </a:lnTo>
                      <a:lnTo>
                        <a:pt x="61" y="25"/>
                      </a:lnTo>
                      <a:lnTo>
                        <a:pt x="59" y="27"/>
                      </a:lnTo>
                      <a:lnTo>
                        <a:pt x="59" y="29"/>
                      </a:lnTo>
                      <a:lnTo>
                        <a:pt x="59" y="32"/>
                      </a:lnTo>
                      <a:lnTo>
                        <a:pt x="57" y="33"/>
                      </a:lnTo>
                      <a:lnTo>
                        <a:pt x="57" y="35"/>
                      </a:lnTo>
                      <a:lnTo>
                        <a:pt x="55" y="36"/>
                      </a:lnTo>
                      <a:lnTo>
                        <a:pt x="55" y="38"/>
                      </a:lnTo>
                      <a:lnTo>
                        <a:pt x="52" y="39"/>
                      </a:lnTo>
                      <a:lnTo>
                        <a:pt x="52" y="40"/>
                      </a:lnTo>
                      <a:lnTo>
                        <a:pt x="50" y="41"/>
                      </a:lnTo>
                      <a:lnTo>
                        <a:pt x="50" y="42"/>
                      </a:lnTo>
                      <a:lnTo>
                        <a:pt x="48" y="43"/>
                      </a:lnTo>
                      <a:lnTo>
                        <a:pt x="48" y="44"/>
                      </a:lnTo>
                      <a:lnTo>
                        <a:pt x="46" y="4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260720" y="65876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260720" y="658764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3"/>
                      </a:move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265400" y="6593400"/>
                  <a:ext cx="4320" cy="21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267200" y="6593400"/>
                  <a:ext cx="2520" cy="43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271520" y="653832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2"/>
                      </a:move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275840" y="654408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277280" y="65451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275840" y="657000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272960" y="657576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1" y="0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268280" y="65779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265400" y="658188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1" y="0"/>
                      </a:move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9" name=""/>
                <p:cNvGrpSpPr/>
                <p:nvPr/>
              </p:nvGrpSpPr>
              <p:grpSpPr>
                <a:xfrm>
                  <a:off x="295200" y="6248520"/>
                  <a:ext cx="966600" cy="390240"/>
                  <a:chOff x="295200" y="6248520"/>
                  <a:chExt cx="966600" cy="390240"/>
                </a:xfrm>
              </p:grpSpPr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484200" y="6344640"/>
                    <a:ext cx="716760" cy="294120"/>
                    <a:chOff x="484200" y="6344640"/>
                    <a:chExt cx="716760" cy="29412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812520" y="6535440"/>
                      <a:ext cx="43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0" y="2"/>
                          </a:moveTo>
                          <a:lnTo>
                            <a:pt x="0" y="0"/>
                          </a:lnTo>
                          <a:lnTo>
                            <a:pt x="2" y="1"/>
                          </a:lnTo>
                          <a:lnTo>
                            <a:pt x="2" y="3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813600" y="6536520"/>
                      <a:ext cx="61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4">
                          <a:moveTo>
                            <a:pt x="0" y="2"/>
                          </a:moveTo>
                          <a:lnTo>
                            <a:pt x="0" y="0"/>
                          </a:lnTo>
                          <a:lnTo>
                            <a:pt x="3" y="2"/>
                          </a:lnTo>
                          <a:lnTo>
                            <a:pt x="2" y="3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818280" y="6537960"/>
                      <a:ext cx="46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0" y="2"/>
                          </a:moveTo>
                          <a:lnTo>
                            <a:pt x="0" y="0"/>
                          </a:lnTo>
                          <a:lnTo>
                            <a:pt x="2" y="1"/>
                          </a:lnTo>
                          <a:lnTo>
                            <a:pt x="1" y="3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821160" y="6540120"/>
                      <a:ext cx="432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5">
                          <a:moveTo>
                            <a:pt x="0" y="2"/>
                          </a:moveTo>
                          <a:lnTo>
                            <a:pt x="1" y="0"/>
                          </a:lnTo>
                          <a:lnTo>
                            <a:pt x="2" y="2"/>
                          </a:lnTo>
                          <a:lnTo>
                            <a:pt x="1" y="4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821160" y="6542640"/>
                      <a:ext cx="61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3">
                          <a:moveTo>
                            <a:pt x="0" y="1"/>
                          </a:moveTo>
                          <a:lnTo>
                            <a:pt x="2" y="0"/>
                          </a:lnTo>
                          <a:lnTo>
                            <a:pt x="3" y="1"/>
                          </a:lnTo>
                          <a:lnTo>
                            <a:pt x="1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>
                      <a:off x="824400" y="654372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1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824400" y="654480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1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825840" y="6545880"/>
                      <a:ext cx="288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1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825840" y="6547320"/>
                      <a:ext cx="4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1" y="0"/>
                          </a:lnTo>
                          <a:lnTo>
                            <a:pt x="2" y="1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825840" y="6549480"/>
                      <a:ext cx="4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2" y="0"/>
                          </a:lnTo>
                          <a:lnTo>
                            <a:pt x="2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827640" y="6550560"/>
                      <a:ext cx="43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827640" y="6553080"/>
                      <a:ext cx="432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827640" y="6554160"/>
                      <a:ext cx="432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2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827640" y="6556680"/>
                      <a:ext cx="432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828720" y="655776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828720" y="6559920"/>
                      <a:ext cx="288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827640" y="6561360"/>
                      <a:ext cx="43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0" y="0"/>
                          </a:moveTo>
                          <a:lnTo>
                            <a:pt x="2" y="1"/>
                          </a:lnTo>
                          <a:lnTo>
                            <a:pt x="2" y="3"/>
                          </a:lnTo>
                          <a:lnTo>
                            <a:pt x="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827640" y="6564960"/>
                      <a:ext cx="43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2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803160" y="6564960"/>
                      <a:ext cx="2880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">
                          <a:moveTo>
                            <a:pt x="17" y="0"/>
                          </a:moveTo>
                          <a:lnTo>
                            <a:pt x="18" y="3"/>
                          </a:lnTo>
                          <a:lnTo>
                            <a:pt x="0" y="4"/>
                          </a:lnTo>
                          <a:lnTo>
                            <a:pt x="1" y="3"/>
                          </a:lnTo>
                          <a:lnTo>
                            <a:pt x="1" y="1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803160" y="656712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1"/>
                          </a:move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825840" y="6535440"/>
                      <a:ext cx="8928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87">
                          <a:moveTo>
                            <a:pt x="0" y="86"/>
                          </a:moveTo>
                          <a:lnTo>
                            <a:pt x="13" y="0"/>
                          </a:lnTo>
                          <a:lnTo>
                            <a:pt x="58" y="0"/>
                          </a:lnTo>
                          <a:lnTo>
                            <a:pt x="55" y="19"/>
                          </a:lnTo>
                          <a:lnTo>
                            <a:pt x="26" y="19"/>
                          </a:lnTo>
                          <a:lnTo>
                            <a:pt x="24" y="32"/>
                          </a:lnTo>
                          <a:lnTo>
                            <a:pt x="50" y="32"/>
                          </a:lnTo>
                          <a:lnTo>
                            <a:pt x="47" y="51"/>
                          </a:lnTo>
                          <a:lnTo>
                            <a:pt x="22" y="51"/>
                          </a:lnTo>
                          <a:lnTo>
                            <a:pt x="19" y="67"/>
                          </a:lnTo>
                          <a:lnTo>
                            <a:pt x="48" y="67"/>
                          </a:lnTo>
                          <a:lnTo>
                            <a:pt x="45" y="86"/>
                          </a:lnTo>
                          <a:lnTo>
                            <a:pt x="0" y="8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843840" y="6534360"/>
                      <a:ext cx="7128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3">
                          <a:moveTo>
                            <a:pt x="1" y="2"/>
                          </a:moveTo>
                          <a:lnTo>
                            <a:pt x="0" y="0"/>
                          </a:lnTo>
                          <a:lnTo>
                            <a:pt x="46" y="0"/>
                          </a:lnTo>
                          <a:lnTo>
                            <a:pt x="44" y="2"/>
                          </a:lnTo>
                          <a:lnTo>
                            <a:pt x="1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907560" y="6534360"/>
                      <a:ext cx="75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22">
                          <a:moveTo>
                            <a:pt x="2" y="2"/>
                          </a:moveTo>
                          <a:lnTo>
                            <a:pt x="4" y="0"/>
                          </a:lnTo>
                          <a:lnTo>
                            <a:pt x="1" y="21"/>
                          </a:lnTo>
                          <a:lnTo>
                            <a:pt x="0" y="19"/>
                          </a:lnTo>
                          <a:lnTo>
                            <a:pt x="2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864000" y="6556680"/>
                      <a:ext cx="46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3">
                          <a:moveTo>
                            <a:pt x="29" y="0"/>
                          </a:moveTo>
                          <a:lnTo>
                            <a:pt x="30" y="2"/>
                          </a:lnTo>
                          <a:lnTo>
                            <a:pt x="1" y="2"/>
                          </a:lnTo>
                          <a:lnTo>
                            <a:pt x="0" y="0"/>
                          </a:lnTo>
                          <a:lnTo>
                            <a:pt x="29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862200" y="6556680"/>
                      <a:ext cx="432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6">
                          <a:moveTo>
                            <a:pt x="1" y="0"/>
                          </a:moveTo>
                          <a:lnTo>
                            <a:pt x="2" y="2"/>
                          </a:lnTo>
                          <a:lnTo>
                            <a:pt x="1" y="13"/>
                          </a:lnTo>
                          <a:lnTo>
                            <a:pt x="0" y="15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862200" y="6572880"/>
                      <a:ext cx="4248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">
                          <a:moveTo>
                            <a:pt x="0" y="1"/>
                          </a:moveTo>
                          <a:lnTo>
                            <a:pt x="2" y="0"/>
                          </a:lnTo>
                          <a:lnTo>
                            <a:pt x="27" y="0"/>
                          </a:lnTo>
                          <a:lnTo>
                            <a:pt x="25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897120" y="6572880"/>
                      <a:ext cx="720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21">
                          <a:moveTo>
                            <a:pt x="2" y="2"/>
                          </a:moveTo>
                          <a:lnTo>
                            <a:pt x="4" y="0"/>
                          </a:lnTo>
                          <a:lnTo>
                            <a:pt x="1" y="20"/>
                          </a:lnTo>
                          <a:lnTo>
                            <a:pt x="0" y="18"/>
                          </a:lnTo>
                          <a:lnTo>
                            <a:pt x="2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>
                      <a:off x="857520" y="6594120"/>
                      <a:ext cx="421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3">
                          <a:moveTo>
                            <a:pt x="26" y="0"/>
                          </a:moveTo>
                          <a:lnTo>
                            <a:pt x="27" y="2"/>
                          </a:lnTo>
                          <a:lnTo>
                            <a:pt x="1" y="2"/>
                          </a:lnTo>
                          <a:lnTo>
                            <a:pt x="0" y="0"/>
                          </a:lnTo>
                          <a:lnTo>
                            <a:pt x="26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851400" y="6594120"/>
                      <a:ext cx="900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9">
                          <a:moveTo>
                            <a:pt x="4" y="0"/>
                          </a:moveTo>
                          <a:lnTo>
                            <a:pt x="5" y="2"/>
                          </a:lnTo>
                          <a:lnTo>
                            <a:pt x="2" y="16"/>
                          </a:lnTo>
                          <a:lnTo>
                            <a:pt x="0" y="18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851400" y="6612840"/>
                      <a:ext cx="50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3">
                          <a:moveTo>
                            <a:pt x="0" y="2"/>
                          </a:moveTo>
                          <a:lnTo>
                            <a:pt x="2" y="0"/>
                          </a:lnTo>
                          <a:lnTo>
                            <a:pt x="32" y="0"/>
                          </a:lnTo>
                          <a:lnTo>
                            <a:pt x="30" y="2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892440" y="6612840"/>
                      <a:ext cx="900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2">
                          <a:moveTo>
                            <a:pt x="3" y="2"/>
                          </a:moveTo>
                          <a:lnTo>
                            <a:pt x="5" y="0"/>
                          </a:lnTo>
                          <a:lnTo>
                            <a:pt x="1" y="21"/>
                          </a:lnTo>
                          <a:lnTo>
                            <a:pt x="0" y="19"/>
                          </a:lnTo>
                          <a:lnTo>
                            <a:pt x="3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824400" y="6635160"/>
                      <a:ext cx="709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3">
                          <a:moveTo>
                            <a:pt x="45" y="0"/>
                          </a:moveTo>
                          <a:lnTo>
                            <a:pt x="46" y="2"/>
                          </a:lnTo>
                          <a:lnTo>
                            <a:pt x="0" y="2"/>
                          </a:lnTo>
                          <a:lnTo>
                            <a:pt x="2" y="0"/>
                          </a:lnTo>
                          <a:lnTo>
                            <a:pt x="4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824400" y="6534360"/>
                      <a:ext cx="21240" cy="10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89">
                          <a:moveTo>
                            <a:pt x="2" y="86"/>
                          </a:moveTo>
                          <a:lnTo>
                            <a:pt x="0" y="88"/>
                          </a:lnTo>
                          <a:lnTo>
                            <a:pt x="12" y="0"/>
                          </a:lnTo>
                          <a:lnTo>
                            <a:pt x="13" y="2"/>
                          </a:lnTo>
                          <a:lnTo>
                            <a:pt x="2" y="8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996840" y="6535440"/>
                      <a:ext cx="8892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87">
                          <a:moveTo>
                            <a:pt x="41" y="0"/>
                          </a:moveTo>
                          <a:lnTo>
                            <a:pt x="58" y="0"/>
                          </a:lnTo>
                          <a:lnTo>
                            <a:pt x="24" y="86"/>
                          </a:lnTo>
                          <a:lnTo>
                            <a:pt x="8" y="86"/>
                          </a:lnTo>
                          <a:lnTo>
                            <a:pt x="0" y="0"/>
                          </a:lnTo>
                          <a:lnTo>
                            <a:pt x="18" y="0"/>
                          </a:lnTo>
                          <a:lnTo>
                            <a:pt x="22" y="57"/>
                          </a:lnTo>
                          <a:lnTo>
                            <a:pt x="4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1031760" y="6534360"/>
                      <a:ext cx="54360" cy="10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89">
                          <a:moveTo>
                            <a:pt x="33" y="2"/>
                          </a:moveTo>
                          <a:lnTo>
                            <a:pt x="35" y="0"/>
                          </a:lnTo>
                          <a:lnTo>
                            <a:pt x="1" y="88"/>
                          </a:lnTo>
                          <a:lnTo>
                            <a:pt x="0" y="86"/>
                          </a:lnTo>
                          <a:lnTo>
                            <a:pt x="33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1009080" y="6635160"/>
                      <a:ext cx="270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">
                          <a:moveTo>
                            <a:pt x="16" y="0"/>
                          </a:moveTo>
                          <a:lnTo>
                            <a:pt x="17" y="2"/>
                          </a:lnTo>
                          <a:lnTo>
                            <a:pt x="0" y="2"/>
                          </a:lnTo>
                          <a:lnTo>
                            <a:pt x="1" y="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995400" y="6534360"/>
                      <a:ext cx="14760" cy="10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89">
                          <a:moveTo>
                            <a:pt x="9" y="86"/>
                          </a:moveTo>
                          <a:lnTo>
                            <a:pt x="8" y="88"/>
                          </a:lnTo>
                          <a:lnTo>
                            <a:pt x="0" y="0"/>
                          </a:lnTo>
                          <a:lnTo>
                            <a:pt x="1" y="2"/>
                          </a:lnTo>
                          <a:lnTo>
                            <a:pt x="9" y="8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995400" y="6534360"/>
                      <a:ext cx="3168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3">
                          <a:moveTo>
                            <a:pt x="2" y="2"/>
                          </a:moveTo>
                          <a:lnTo>
                            <a:pt x="0" y="0"/>
                          </a:lnTo>
                          <a:lnTo>
                            <a:pt x="20" y="0"/>
                          </a:lnTo>
                          <a:lnTo>
                            <a:pt x="19" y="2"/>
                          </a:lnTo>
                          <a:lnTo>
                            <a:pt x="2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1024200" y="6534360"/>
                      <a:ext cx="720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60">
                          <a:moveTo>
                            <a:pt x="0" y="2"/>
                          </a:moveTo>
                          <a:lnTo>
                            <a:pt x="1" y="0"/>
                          </a:lnTo>
                          <a:lnTo>
                            <a:pt x="4" y="58"/>
                          </a:lnTo>
                          <a:lnTo>
                            <a:pt x="3" y="58"/>
                          </a:lnTo>
                          <a:lnTo>
                            <a:pt x="3" y="59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1028520" y="660132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2"/>
                          </a:move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1028520" y="6534360"/>
                      <a:ext cx="3168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60">
                          <a:moveTo>
                            <a:pt x="1" y="59"/>
                          </a:moveTo>
                          <a:lnTo>
                            <a:pt x="1" y="58"/>
                          </a:lnTo>
                          <a:lnTo>
                            <a:pt x="0" y="58"/>
                          </a:lnTo>
                          <a:lnTo>
                            <a:pt x="19" y="0"/>
                          </a:lnTo>
                          <a:lnTo>
                            <a:pt x="20" y="2"/>
                          </a:lnTo>
                          <a:lnTo>
                            <a:pt x="1" y="59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1058760" y="6534360"/>
                      <a:ext cx="2736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">
                          <a:moveTo>
                            <a:pt x="1" y="2"/>
                          </a:moveTo>
                          <a:lnTo>
                            <a:pt x="0" y="0"/>
                          </a:lnTo>
                          <a:lnTo>
                            <a:pt x="17" y="0"/>
                          </a:lnTo>
                          <a:lnTo>
                            <a:pt x="15" y="2"/>
                          </a:lnTo>
                          <a:lnTo>
                            <a:pt x="1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1071000" y="6535440"/>
                      <a:ext cx="4644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87">
                          <a:moveTo>
                            <a:pt x="0" y="86"/>
                          </a:moveTo>
                          <a:lnTo>
                            <a:pt x="13" y="0"/>
                          </a:lnTo>
                          <a:lnTo>
                            <a:pt x="30" y="0"/>
                          </a:lnTo>
                          <a:lnTo>
                            <a:pt x="17" y="86"/>
                          </a:lnTo>
                          <a:lnTo>
                            <a:pt x="0" y="8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1089360" y="6534360"/>
                      <a:ext cx="2844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3">
                          <a:moveTo>
                            <a:pt x="1" y="2"/>
                          </a:moveTo>
                          <a:lnTo>
                            <a:pt x="0" y="0"/>
                          </a:lnTo>
                          <a:lnTo>
                            <a:pt x="18" y="0"/>
                          </a:lnTo>
                          <a:lnTo>
                            <a:pt x="16" y="2"/>
                          </a:lnTo>
                          <a:lnTo>
                            <a:pt x="1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1095120" y="6534360"/>
                      <a:ext cx="22320" cy="10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89">
                          <a:moveTo>
                            <a:pt x="12" y="2"/>
                          </a:moveTo>
                          <a:lnTo>
                            <a:pt x="14" y="0"/>
                          </a:lnTo>
                          <a:lnTo>
                            <a:pt x="1" y="88"/>
                          </a:lnTo>
                          <a:lnTo>
                            <a:pt x="0" y="86"/>
                          </a:lnTo>
                          <a:lnTo>
                            <a:pt x="12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1069560" y="6635160"/>
                      <a:ext cx="30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3">
                          <a:moveTo>
                            <a:pt x="18" y="0"/>
                          </a:moveTo>
                          <a:lnTo>
                            <a:pt x="19" y="2"/>
                          </a:lnTo>
                          <a:lnTo>
                            <a:pt x="0" y="2"/>
                          </a:lnTo>
                          <a:lnTo>
                            <a:pt x="2" y="0"/>
                          </a:lnTo>
                          <a:lnTo>
                            <a:pt x="1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1069560" y="6534360"/>
                      <a:ext cx="22320" cy="10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89">
                          <a:moveTo>
                            <a:pt x="2" y="86"/>
                          </a:moveTo>
                          <a:lnTo>
                            <a:pt x="0" y="88"/>
                          </a:lnTo>
                          <a:lnTo>
                            <a:pt x="13" y="0"/>
                          </a:lnTo>
                          <a:lnTo>
                            <a:pt x="14" y="2"/>
                          </a:lnTo>
                          <a:lnTo>
                            <a:pt x="2" y="8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1108800" y="6535440"/>
                      <a:ext cx="9072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87">
                          <a:moveTo>
                            <a:pt x="0" y="86"/>
                          </a:moveTo>
                          <a:lnTo>
                            <a:pt x="13" y="0"/>
                          </a:lnTo>
                          <a:lnTo>
                            <a:pt x="59" y="0"/>
                          </a:lnTo>
                          <a:lnTo>
                            <a:pt x="56" y="19"/>
                          </a:lnTo>
                          <a:lnTo>
                            <a:pt x="27" y="19"/>
                          </a:lnTo>
                          <a:lnTo>
                            <a:pt x="25" y="32"/>
                          </a:lnTo>
                          <a:lnTo>
                            <a:pt x="51" y="32"/>
                          </a:lnTo>
                          <a:lnTo>
                            <a:pt x="48" y="51"/>
                          </a:lnTo>
                          <a:lnTo>
                            <a:pt x="22" y="51"/>
                          </a:lnTo>
                          <a:lnTo>
                            <a:pt x="20" y="67"/>
                          </a:lnTo>
                          <a:lnTo>
                            <a:pt x="49" y="67"/>
                          </a:lnTo>
                          <a:lnTo>
                            <a:pt x="46" y="86"/>
                          </a:lnTo>
                          <a:lnTo>
                            <a:pt x="0" y="8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1127160" y="6534360"/>
                      <a:ext cx="7380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">
                          <a:moveTo>
                            <a:pt x="1" y="2"/>
                          </a:moveTo>
                          <a:lnTo>
                            <a:pt x="0" y="0"/>
                          </a:lnTo>
                          <a:lnTo>
                            <a:pt x="48" y="0"/>
                          </a:lnTo>
                          <a:lnTo>
                            <a:pt x="46" y="2"/>
                          </a:lnTo>
                          <a:lnTo>
                            <a:pt x="1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1193760" y="6534360"/>
                      <a:ext cx="720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22">
                          <a:moveTo>
                            <a:pt x="2" y="2"/>
                          </a:moveTo>
                          <a:lnTo>
                            <a:pt x="4" y="0"/>
                          </a:lnTo>
                          <a:lnTo>
                            <a:pt x="1" y="21"/>
                          </a:lnTo>
                          <a:lnTo>
                            <a:pt x="0" y="19"/>
                          </a:lnTo>
                          <a:lnTo>
                            <a:pt x="2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1148400" y="6556680"/>
                      <a:ext cx="48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3">
                          <a:moveTo>
                            <a:pt x="30" y="0"/>
                          </a:moveTo>
                          <a:lnTo>
                            <a:pt x="31" y="2"/>
                          </a:lnTo>
                          <a:lnTo>
                            <a:pt x="1" y="2"/>
                          </a:lnTo>
                          <a:lnTo>
                            <a:pt x="0" y="0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1145160" y="6556680"/>
                      <a:ext cx="576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16">
                          <a:moveTo>
                            <a:pt x="2" y="0"/>
                          </a:moveTo>
                          <a:lnTo>
                            <a:pt x="3" y="2"/>
                          </a:lnTo>
                          <a:lnTo>
                            <a:pt x="1" y="13"/>
                          </a:lnTo>
                          <a:lnTo>
                            <a:pt x="0" y="15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1145160" y="6572880"/>
                      <a:ext cx="4212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">
                          <a:moveTo>
                            <a:pt x="0" y="1"/>
                          </a:moveTo>
                          <a:lnTo>
                            <a:pt x="2" y="0"/>
                          </a:lnTo>
                          <a:lnTo>
                            <a:pt x="27" y="0"/>
                          </a:lnTo>
                          <a:lnTo>
                            <a:pt x="25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1181520" y="6572880"/>
                      <a:ext cx="576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21">
                          <a:moveTo>
                            <a:pt x="2" y="2"/>
                          </a:moveTo>
                          <a:lnTo>
                            <a:pt x="3" y="0"/>
                          </a:lnTo>
                          <a:lnTo>
                            <a:pt x="1" y="20"/>
                          </a:lnTo>
                          <a:lnTo>
                            <a:pt x="0" y="18"/>
                          </a:lnTo>
                          <a:lnTo>
                            <a:pt x="2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1142280" y="6594120"/>
                      <a:ext cx="40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3">
                          <a:moveTo>
                            <a:pt x="25" y="0"/>
                          </a:moveTo>
                          <a:lnTo>
                            <a:pt x="26" y="2"/>
                          </a:lnTo>
                          <a:lnTo>
                            <a:pt x="1" y="2"/>
                          </a:lnTo>
                          <a:lnTo>
                            <a:pt x="0" y="0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137600" y="6594120"/>
                      <a:ext cx="576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19">
                          <a:moveTo>
                            <a:pt x="2" y="0"/>
                          </a:moveTo>
                          <a:lnTo>
                            <a:pt x="3" y="2"/>
                          </a:lnTo>
                          <a:lnTo>
                            <a:pt x="1" y="16"/>
                          </a:lnTo>
                          <a:lnTo>
                            <a:pt x="0" y="18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137600" y="6612840"/>
                      <a:ext cx="48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3">
                          <a:moveTo>
                            <a:pt x="0" y="2"/>
                          </a:moveTo>
                          <a:lnTo>
                            <a:pt x="2" y="0"/>
                          </a:lnTo>
                          <a:lnTo>
                            <a:pt x="31" y="0"/>
                          </a:lnTo>
                          <a:lnTo>
                            <a:pt x="29" y="2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176840" y="6612840"/>
                      <a:ext cx="900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2">
                          <a:moveTo>
                            <a:pt x="3" y="2"/>
                          </a:moveTo>
                          <a:lnTo>
                            <a:pt x="5" y="0"/>
                          </a:lnTo>
                          <a:lnTo>
                            <a:pt x="1" y="21"/>
                          </a:lnTo>
                          <a:lnTo>
                            <a:pt x="0" y="19"/>
                          </a:lnTo>
                          <a:lnTo>
                            <a:pt x="3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1105920" y="6635160"/>
                      <a:ext cx="73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">
                          <a:moveTo>
                            <a:pt x="47" y="0"/>
                          </a:moveTo>
                          <a:lnTo>
                            <a:pt x="48" y="2"/>
                          </a:lnTo>
                          <a:lnTo>
                            <a:pt x="0" y="2"/>
                          </a:lnTo>
                          <a:lnTo>
                            <a:pt x="2" y="0"/>
                          </a:lnTo>
                          <a:lnTo>
                            <a:pt x="47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05920" y="6534360"/>
                      <a:ext cx="24120" cy="10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89">
                          <a:moveTo>
                            <a:pt x="2" y="86"/>
                          </a:moveTo>
                          <a:lnTo>
                            <a:pt x="0" y="88"/>
                          </a:lnTo>
                          <a:lnTo>
                            <a:pt x="14" y="0"/>
                          </a:lnTo>
                          <a:lnTo>
                            <a:pt x="15" y="2"/>
                          </a:lnTo>
                          <a:lnTo>
                            <a:pt x="2" y="8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904680" y="6535440"/>
                      <a:ext cx="9216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87">
                          <a:moveTo>
                            <a:pt x="45" y="45"/>
                          </a:moveTo>
                          <a:lnTo>
                            <a:pt x="47" y="46"/>
                          </a:lnTo>
                          <a:lnTo>
                            <a:pt x="49" y="46"/>
                          </a:lnTo>
                          <a:lnTo>
                            <a:pt x="49" y="46"/>
                          </a:lnTo>
                          <a:lnTo>
                            <a:pt x="51" y="47"/>
                          </a:lnTo>
                          <a:lnTo>
                            <a:pt x="51" y="47"/>
                          </a:lnTo>
                          <a:lnTo>
                            <a:pt x="51" y="49"/>
                          </a:lnTo>
                          <a:lnTo>
                            <a:pt x="53" y="50"/>
                          </a:lnTo>
                          <a:lnTo>
                            <a:pt x="53" y="52"/>
                          </a:lnTo>
                          <a:lnTo>
                            <a:pt x="53" y="53"/>
                          </a:lnTo>
                          <a:lnTo>
                            <a:pt x="53" y="55"/>
                          </a:lnTo>
                          <a:lnTo>
                            <a:pt x="53" y="57"/>
                          </a:lnTo>
                          <a:lnTo>
                            <a:pt x="53" y="59"/>
                          </a:lnTo>
                          <a:lnTo>
                            <a:pt x="53" y="60"/>
                          </a:lnTo>
                          <a:lnTo>
                            <a:pt x="53" y="61"/>
                          </a:lnTo>
                          <a:lnTo>
                            <a:pt x="53" y="63"/>
                          </a:lnTo>
                          <a:lnTo>
                            <a:pt x="53" y="65"/>
                          </a:lnTo>
                          <a:lnTo>
                            <a:pt x="53" y="67"/>
                          </a:lnTo>
                          <a:lnTo>
                            <a:pt x="53" y="68"/>
                          </a:lnTo>
                          <a:lnTo>
                            <a:pt x="53" y="70"/>
                          </a:lnTo>
                          <a:lnTo>
                            <a:pt x="53" y="72"/>
                          </a:lnTo>
                          <a:lnTo>
                            <a:pt x="53" y="74"/>
                          </a:lnTo>
                          <a:lnTo>
                            <a:pt x="53" y="75"/>
                          </a:lnTo>
                          <a:lnTo>
                            <a:pt x="53" y="76"/>
                          </a:lnTo>
                          <a:lnTo>
                            <a:pt x="53" y="77"/>
                          </a:lnTo>
                          <a:lnTo>
                            <a:pt x="53" y="78"/>
                          </a:lnTo>
                          <a:lnTo>
                            <a:pt x="53" y="79"/>
                          </a:lnTo>
                          <a:lnTo>
                            <a:pt x="53" y="81"/>
                          </a:lnTo>
                          <a:lnTo>
                            <a:pt x="53" y="82"/>
                          </a:lnTo>
                          <a:lnTo>
                            <a:pt x="53" y="83"/>
                          </a:lnTo>
                          <a:lnTo>
                            <a:pt x="53" y="84"/>
                          </a:lnTo>
                          <a:lnTo>
                            <a:pt x="53" y="85"/>
                          </a:lnTo>
                          <a:lnTo>
                            <a:pt x="53" y="86"/>
                          </a:lnTo>
                          <a:lnTo>
                            <a:pt x="36" y="86"/>
                          </a:lnTo>
                          <a:lnTo>
                            <a:pt x="36" y="85"/>
                          </a:lnTo>
                          <a:lnTo>
                            <a:pt x="36" y="83"/>
                          </a:lnTo>
                          <a:lnTo>
                            <a:pt x="36" y="81"/>
                          </a:lnTo>
                          <a:lnTo>
                            <a:pt x="36" y="77"/>
                          </a:lnTo>
                          <a:lnTo>
                            <a:pt x="36" y="74"/>
                          </a:lnTo>
                          <a:lnTo>
                            <a:pt x="36" y="72"/>
                          </a:lnTo>
                          <a:lnTo>
                            <a:pt x="36" y="70"/>
                          </a:lnTo>
                          <a:lnTo>
                            <a:pt x="36" y="68"/>
                          </a:lnTo>
                          <a:lnTo>
                            <a:pt x="36" y="68"/>
                          </a:lnTo>
                          <a:lnTo>
                            <a:pt x="36" y="67"/>
                          </a:lnTo>
                          <a:lnTo>
                            <a:pt x="36" y="67"/>
                          </a:lnTo>
                          <a:lnTo>
                            <a:pt x="36" y="66"/>
                          </a:lnTo>
                          <a:lnTo>
                            <a:pt x="36" y="64"/>
                          </a:lnTo>
                          <a:lnTo>
                            <a:pt x="36" y="62"/>
                          </a:lnTo>
                          <a:lnTo>
                            <a:pt x="36" y="61"/>
                          </a:lnTo>
                          <a:lnTo>
                            <a:pt x="36" y="60"/>
                          </a:lnTo>
                          <a:lnTo>
                            <a:pt x="36" y="59"/>
                          </a:lnTo>
                          <a:lnTo>
                            <a:pt x="36" y="58"/>
                          </a:lnTo>
                          <a:lnTo>
                            <a:pt x="36" y="57"/>
                          </a:lnTo>
                          <a:lnTo>
                            <a:pt x="36" y="57"/>
                          </a:lnTo>
                          <a:lnTo>
                            <a:pt x="34" y="56"/>
                          </a:lnTo>
                          <a:lnTo>
                            <a:pt x="32" y="56"/>
                          </a:lnTo>
                          <a:lnTo>
                            <a:pt x="30" y="56"/>
                          </a:lnTo>
                          <a:lnTo>
                            <a:pt x="28" y="56"/>
                          </a:lnTo>
                          <a:lnTo>
                            <a:pt x="21" y="56"/>
                          </a:lnTo>
                          <a:lnTo>
                            <a:pt x="17" y="86"/>
                          </a:lnTo>
                          <a:lnTo>
                            <a:pt x="0" y="86"/>
                          </a:lnTo>
                          <a:lnTo>
                            <a:pt x="13" y="0"/>
                          </a:lnTo>
                          <a:lnTo>
                            <a:pt x="41" y="0"/>
                          </a:lnTo>
                          <a:lnTo>
                            <a:pt x="45" y="0"/>
                          </a:lnTo>
                          <a:lnTo>
                            <a:pt x="47" y="0"/>
                          </a:lnTo>
                          <a:lnTo>
                            <a:pt x="49" y="0"/>
                          </a:lnTo>
                          <a:lnTo>
                            <a:pt x="51" y="1"/>
                          </a:lnTo>
                          <a:lnTo>
                            <a:pt x="53" y="2"/>
                          </a:lnTo>
                          <a:lnTo>
                            <a:pt x="54" y="4"/>
                          </a:lnTo>
                          <a:lnTo>
                            <a:pt x="56" y="4"/>
                          </a:lnTo>
                          <a:lnTo>
                            <a:pt x="56" y="6"/>
                          </a:lnTo>
                          <a:lnTo>
                            <a:pt x="58" y="7"/>
                          </a:lnTo>
                          <a:lnTo>
                            <a:pt x="58" y="8"/>
                          </a:lnTo>
                          <a:lnTo>
                            <a:pt x="58" y="9"/>
                          </a:lnTo>
                          <a:lnTo>
                            <a:pt x="58" y="11"/>
                          </a:lnTo>
                          <a:lnTo>
                            <a:pt x="58" y="11"/>
                          </a:lnTo>
                          <a:lnTo>
                            <a:pt x="58" y="13"/>
                          </a:lnTo>
                          <a:lnTo>
                            <a:pt x="60" y="14"/>
                          </a:lnTo>
                          <a:lnTo>
                            <a:pt x="60" y="16"/>
                          </a:lnTo>
                          <a:lnTo>
                            <a:pt x="60" y="18"/>
                          </a:lnTo>
                          <a:lnTo>
                            <a:pt x="60" y="19"/>
                          </a:lnTo>
                          <a:lnTo>
                            <a:pt x="60" y="21"/>
                          </a:lnTo>
                          <a:lnTo>
                            <a:pt x="60" y="23"/>
                          </a:lnTo>
                          <a:lnTo>
                            <a:pt x="58" y="25"/>
                          </a:lnTo>
                          <a:lnTo>
                            <a:pt x="58" y="27"/>
                          </a:lnTo>
                          <a:lnTo>
                            <a:pt x="58" y="29"/>
                          </a:lnTo>
                          <a:lnTo>
                            <a:pt x="58" y="32"/>
                          </a:lnTo>
                          <a:lnTo>
                            <a:pt x="56" y="33"/>
                          </a:lnTo>
                          <a:lnTo>
                            <a:pt x="56" y="35"/>
                          </a:lnTo>
                          <a:lnTo>
                            <a:pt x="54" y="36"/>
                          </a:lnTo>
                          <a:lnTo>
                            <a:pt x="54" y="38"/>
                          </a:lnTo>
                          <a:lnTo>
                            <a:pt x="53" y="39"/>
                          </a:lnTo>
                          <a:lnTo>
                            <a:pt x="51" y="40"/>
                          </a:lnTo>
                          <a:lnTo>
                            <a:pt x="51" y="41"/>
                          </a:lnTo>
                          <a:lnTo>
                            <a:pt x="49" y="42"/>
                          </a:lnTo>
                          <a:lnTo>
                            <a:pt x="47" y="43"/>
                          </a:lnTo>
                          <a:lnTo>
                            <a:pt x="47" y="44"/>
                          </a:lnTo>
                          <a:lnTo>
                            <a:pt x="45" y="45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975600" y="658728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2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975600" y="6587280"/>
                      <a:ext cx="43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0" y="3"/>
                          </a:moveTo>
                          <a:lnTo>
                            <a:pt x="1" y="0"/>
                          </a:lnTo>
                          <a:lnTo>
                            <a:pt x="2" y="1"/>
                          </a:lnTo>
                          <a:lnTo>
                            <a:pt x="1" y="3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977040" y="6588000"/>
                      <a:ext cx="4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2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978840" y="658944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1"/>
                          </a:moveTo>
                          <a:lnTo>
                            <a:pt x="0" y="0"/>
                          </a:lnTo>
                          <a:lnTo>
                            <a:pt x="1" y="1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980280" y="6589440"/>
                      <a:ext cx="28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4">
                          <a:moveTo>
                            <a:pt x="0" y="2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980280" y="6590520"/>
                      <a:ext cx="43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1" y="0"/>
                          </a:lnTo>
                          <a:lnTo>
                            <a:pt x="2" y="1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980280" y="6593040"/>
                      <a:ext cx="432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0" y="1"/>
                          </a:move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981720" y="6593040"/>
                      <a:ext cx="25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4">
                          <a:moveTo>
                            <a:pt x="0" y="1"/>
                          </a:move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0" y="3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981720" y="6595200"/>
                      <a:ext cx="25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81720" y="6597360"/>
                      <a:ext cx="252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981720" y="6599880"/>
                      <a:ext cx="25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981720" y="6602400"/>
                      <a:ext cx="25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981720" y="6604560"/>
                      <a:ext cx="252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981720" y="6605640"/>
                      <a:ext cx="252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981720" y="6608160"/>
                      <a:ext cx="252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981720" y="6609600"/>
                      <a:ext cx="25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981720" y="6611400"/>
                      <a:ext cx="252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981720" y="6612840"/>
                      <a:ext cx="25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981720" y="6615360"/>
                      <a:ext cx="25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981720" y="6617520"/>
                      <a:ext cx="252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981720" y="6619680"/>
                      <a:ext cx="25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81720" y="6622200"/>
                      <a:ext cx="252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981720" y="6623280"/>
                      <a:ext cx="252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981720" y="6624720"/>
                      <a:ext cx="1080" cy="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6080" bIns="-46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981720" y="6625800"/>
                      <a:ext cx="252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981720" y="6626880"/>
                      <a:ext cx="25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981720" y="6627960"/>
                      <a:ext cx="25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1"/>
                          </a:move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981720" y="6630480"/>
                      <a:ext cx="252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981720" y="6631560"/>
                      <a:ext cx="252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1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981720" y="6633000"/>
                      <a:ext cx="252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981720" y="6633720"/>
                      <a:ext cx="252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981720" y="6635160"/>
                      <a:ext cx="25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957600" y="6635160"/>
                      <a:ext cx="270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">
                          <a:moveTo>
                            <a:pt x="16" y="0"/>
                          </a:moveTo>
                          <a:lnTo>
                            <a:pt x="16" y="1"/>
                          </a:lnTo>
                          <a:lnTo>
                            <a:pt x="17" y="2"/>
                          </a:lnTo>
                          <a:lnTo>
                            <a:pt x="0" y="2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957600" y="663516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1"/>
                          </a:moveTo>
                          <a:lnTo>
                            <a:pt x="1" y="1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957600" y="6633000"/>
                      <a:ext cx="1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3">
                          <a:moveTo>
                            <a:pt x="0" y="2"/>
                          </a:move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957600" y="6629040"/>
                      <a:ext cx="10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4">
                          <a:moveTo>
                            <a:pt x="0" y="3"/>
                          </a:moveTo>
                          <a:lnTo>
                            <a:pt x="0" y="3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956160" y="6625800"/>
                      <a:ext cx="25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4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956160" y="6621120"/>
                      <a:ext cx="1080" cy="4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956160" y="6619680"/>
                      <a:ext cx="252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1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956160" y="6617520"/>
                      <a:ext cx="252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2"/>
                          </a:move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956160" y="6616440"/>
                      <a:ext cx="252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1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956160" y="6615360"/>
                      <a:ext cx="252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1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957600" y="6613920"/>
                      <a:ext cx="108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957600" y="6612840"/>
                      <a:ext cx="108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957600" y="6612840"/>
                      <a:ext cx="108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957600" y="6611400"/>
                      <a:ext cx="108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957600" y="6610680"/>
                      <a:ext cx="1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3">
                          <a:moveTo>
                            <a:pt x="0" y="2"/>
                          </a:move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957600" y="6608160"/>
                      <a:ext cx="1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3">
                          <a:moveTo>
                            <a:pt x="0" y="2"/>
                          </a:move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957600" y="6607080"/>
                      <a:ext cx="288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1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957600" y="6605640"/>
                      <a:ext cx="288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1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957600" y="6604560"/>
                      <a:ext cx="288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1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957600" y="6603480"/>
                      <a:ext cx="108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957600" y="6602400"/>
                      <a:ext cx="1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3">
                          <a:moveTo>
                            <a:pt x="0" y="1"/>
                          </a:move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956160" y="6601320"/>
                      <a:ext cx="25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1"/>
                          </a:move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956160" y="6599880"/>
                      <a:ext cx="25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0"/>
                          </a:move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952920" y="6599880"/>
                      <a:ext cx="57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3">
                          <a:moveTo>
                            <a:pt x="3" y="0"/>
                          </a:move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1" y="0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952920" y="6599880"/>
                      <a:ext cx="43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952920" y="6599880"/>
                      <a:ext cx="1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950040" y="6599880"/>
                      <a:ext cx="432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2" y="0"/>
                          </a:moveTo>
                          <a:lnTo>
                            <a:pt x="2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948600" y="6599880"/>
                      <a:ext cx="252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0"/>
                          </a:move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>
                      <a:off x="946800" y="6599880"/>
                      <a:ext cx="1440" cy="1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945360" y="6599880"/>
                      <a:ext cx="1080" cy="1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936360" y="6599880"/>
                      <a:ext cx="1044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">
                          <a:moveTo>
                            <a:pt x="6" y="0"/>
                          </a:moveTo>
                          <a:lnTo>
                            <a:pt x="6" y="1"/>
                          </a:lnTo>
                          <a:lnTo>
                            <a:pt x="1" y="1"/>
                          </a:lnTo>
                          <a:lnTo>
                            <a:pt x="0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927360" y="6599880"/>
                      <a:ext cx="1044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3">
                          <a:moveTo>
                            <a:pt x="5" y="0"/>
                          </a:moveTo>
                          <a:lnTo>
                            <a:pt x="6" y="2"/>
                          </a:lnTo>
                          <a:lnTo>
                            <a:pt x="1" y="32"/>
                          </a:lnTo>
                          <a:lnTo>
                            <a:pt x="0" y="3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901440" y="6635160"/>
                      <a:ext cx="28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3">
                          <a:moveTo>
                            <a:pt x="17" y="0"/>
                          </a:moveTo>
                          <a:lnTo>
                            <a:pt x="18" y="2"/>
                          </a:lnTo>
                          <a:lnTo>
                            <a:pt x="0" y="2"/>
                          </a:lnTo>
                          <a:lnTo>
                            <a:pt x="2" y="0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901440" y="6534360"/>
                      <a:ext cx="22320" cy="10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89">
                          <a:moveTo>
                            <a:pt x="2" y="86"/>
                          </a:moveTo>
                          <a:lnTo>
                            <a:pt x="0" y="88"/>
                          </a:lnTo>
                          <a:lnTo>
                            <a:pt x="13" y="0"/>
                          </a:lnTo>
                          <a:lnTo>
                            <a:pt x="14" y="2"/>
                          </a:lnTo>
                          <a:lnTo>
                            <a:pt x="2" y="8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923040" y="6534360"/>
                      <a:ext cx="4356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">
                          <a:moveTo>
                            <a:pt x="1" y="2"/>
                          </a:moveTo>
                          <a:lnTo>
                            <a:pt x="0" y="0"/>
                          </a:lnTo>
                          <a:lnTo>
                            <a:pt x="28" y="0"/>
                          </a:lnTo>
                          <a:lnTo>
                            <a:pt x="28" y="2"/>
                          </a:lnTo>
                          <a:lnTo>
                            <a:pt x="1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965160" y="6534360"/>
                      <a:ext cx="612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3">
                          <a:moveTo>
                            <a:pt x="0" y="2"/>
                          </a:moveTo>
                          <a:lnTo>
                            <a:pt x="0" y="0"/>
                          </a:lnTo>
                          <a:lnTo>
                            <a:pt x="3" y="0"/>
                          </a:lnTo>
                          <a:lnTo>
                            <a:pt x="3" y="2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969480" y="6534360"/>
                      <a:ext cx="468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2"/>
                          </a:moveTo>
                          <a:lnTo>
                            <a:pt x="0" y="0"/>
                          </a:lnTo>
                          <a:lnTo>
                            <a:pt x="2" y="0"/>
                          </a:lnTo>
                          <a:lnTo>
                            <a:pt x="2" y="2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972720" y="6534360"/>
                      <a:ext cx="612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3">
                          <a:moveTo>
                            <a:pt x="0" y="2"/>
                          </a:moveTo>
                          <a:lnTo>
                            <a:pt x="0" y="0"/>
                          </a:lnTo>
                          <a:lnTo>
                            <a:pt x="3" y="0"/>
                          </a:lnTo>
                          <a:lnTo>
                            <a:pt x="3" y="2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975600" y="6534360"/>
                      <a:ext cx="61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4">
                          <a:moveTo>
                            <a:pt x="0" y="3"/>
                          </a:moveTo>
                          <a:lnTo>
                            <a:pt x="1" y="0"/>
                          </a:lnTo>
                          <a:lnTo>
                            <a:pt x="3" y="1"/>
                          </a:lnTo>
                          <a:lnTo>
                            <a:pt x="3" y="3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978840" y="6535440"/>
                      <a:ext cx="43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2"/>
                          </a:moveTo>
                          <a:lnTo>
                            <a:pt x="0" y="0"/>
                          </a:lnTo>
                          <a:lnTo>
                            <a:pt x="2" y="0"/>
                          </a:lnTo>
                          <a:lnTo>
                            <a:pt x="2" y="2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980280" y="6536520"/>
                      <a:ext cx="43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0" y="0"/>
                          </a:lnTo>
                          <a:lnTo>
                            <a:pt x="2" y="0"/>
                          </a:lnTo>
                          <a:lnTo>
                            <a:pt x="2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>
                      <a:off x="983160" y="6536520"/>
                      <a:ext cx="43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0" y="2"/>
                          </a:moveTo>
                          <a:lnTo>
                            <a:pt x="0" y="0"/>
                          </a:lnTo>
                          <a:lnTo>
                            <a:pt x="2" y="1"/>
                          </a:lnTo>
                          <a:lnTo>
                            <a:pt x="1" y="3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>
                      <a:off x="984600" y="6537960"/>
                      <a:ext cx="46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0" y="2"/>
                          </a:moveTo>
                          <a:lnTo>
                            <a:pt x="1" y="0"/>
                          </a:lnTo>
                          <a:lnTo>
                            <a:pt x="2" y="2"/>
                          </a:lnTo>
                          <a:lnTo>
                            <a:pt x="1" y="3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>
                      <a:off x="986400" y="6540120"/>
                      <a:ext cx="432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1" y="0"/>
                          </a:lnTo>
                          <a:lnTo>
                            <a:pt x="2" y="1"/>
                          </a:lnTo>
                          <a:lnTo>
                            <a:pt x="1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>
                      <a:off x="987840" y="6541560"/>
                      <a:ext cx="61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4">
                          <a:moveTo>
                            <a:pt x="0" y="2"/>
                          </a:moveTo>
                          <a:lnTo>
                            <a:pt x="2" y="0"/>
                          </a:lnTo>
                          <a:lnTo>
                            <a:pt x="3" y="2"/>
                          </a:lnTo>
                          <a:lnTo>
                            <a:pt x="2" y="3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989280" y="6543720"/>
                      <a:ext cx="432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0" y="1"/>
                          </a:moveTo>
                          <a:lnTo>
                            <a:pt x="1" y="0"/>
                          </a:lnTo>
                          <a:lnTo>
                            <a:pt x="2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989280" y="6544800"/>
                      <a:ext cx="43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990720" y="6544800"/>
                      <a:ext cx="28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4">
                          <a:moveTo>
                            <a:pt x="0" y="2"/>
                          </a:move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992160" y="654732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3">
                          <a:moveTo>
                            <a:pt x="0" y="1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992160" y="6548400"/>
                      <a:ext cx="4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1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992160" y="6549480"/>
                      <a:ext cx="46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0" y="1"/>
                          </a:moveTo>
                          <a:lnTo>
                            <a:pt x="2" y="0"/>
                          </a:lnTo>
                          <a:lnTo>
                            <a:pt x="2" y="2"/>
                          </a:lnTo>
                          <a:lnTo>
                            <a:pt x="0" y="3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992160" y="6551640"/>
                      <a:ext cx="468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2" y="0"/>
                          </a:lnTo>
                          <a:lnTo>
                            <a:pt x="2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992160" y="6553080"/>
                      <a:ext cx="4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1"/>
                          </a:moveTo>
                          <a:lnTo>
                            <a:pt x="2" y="0"/>
                          </a:lnTo>
                          <a:lnTo>
                            <a:pt x="2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992160" y="6555600"/>
                      <a:ext cx="468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992160" y="6556680"/>
                      <a:ext cx="46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2" y="3"/>
                          </a:lnTo>
                          <a:lnTo>
                            <a:pt x="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>
                      <a:off x="992160" y="6559920"/>
                      <a:ext cx="468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2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>
                      <a:off x="992160" y="6562440"/>
                      <a:ext cx="4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2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>
                      <a:off x="992160" y="6564960"/>
                      <a:ext cx="46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0" y="0"/>
                          </a:moveTo>
                          <a:lnTo>
                            <a:pt x="2" y="1"/>
                          </a:lnTo>
                          <a:lnTo>
                            <a:pt x="2" y="3"/>
                          </a:lnTo>
                          <a:lnTo>
                            <a:pt x="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990720" y="6567120"/>
                      <a:ext cx="28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4">
                          <a:moveTo>
                            <a:pt x="0" y="0"/>
                          </a:moveTo>
                          <a:lnTo>
                            <a:pt x="1" y="1"/>
                          </a:lnTo>
                          <a:lnTo>
                            <a:pt x="1" y="3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989280" y="6569640"/>
                      <a:ext cx="43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1" y="0"/>
                          </a:moveTo>
                          <a:lnTo>
                            <a:pt x="2" y="1"/>
                          </a:lnTo>
                          <a:lnTo>
                            <a:pt x="1" y="3"/>
                          </a:lnTo>
                          <a:lnTo>
                            <a:pt x="0" y="2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987840" y="6571800"/>
                      <a:ext cx="432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0"/>
                          </a:moveTo>
                          <a:lnTo>
                            <a:pt x="2" y="1"/>
                          </a:lnTo>
                          <a:lnTo>
                            <a:pt x="1" y="2"/>
                          </a:lnTo>
                          <a:lnTo>
                            <a:pt x="0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>
                      <a:off x="986400" y="6572880"/>
                      <a:ext cx="432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5">
                          <a:moveTo>
                            <a:pt x="1" y="0"/>
                          </a:moveTo>
                          <a:lnTo>
                            <a:pt x="2" y="2"/>
                          </a:lnTo>
                          <a:lnTo>
                            <a:pt x="1" y="4"/>
                          </a:lnTo>
                          <a:lnTo>
                            <a:pt x="0" y="2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>
                      <a:off x="984600" y="6575400"/>
                      <a:ext cx="46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1" y="0"/>
                          </a:moveTo>
                          <a:lnTo>
                            <a:pt x="2" y="2"/>
                          </a:lnTo>
                          <a:lnTo>
                            <a:pt x="1" y="3"/>
                          </a:lnTo>
                          <a:lnTo>
                            <a:pt x="0" y="2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>
                      <a:off x="983160" y="6577560"/>
                      <a:ext cx="43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1" y="0"/>
                          </a:moveTo>
                          <a:lnTo>
                            <a:pt x="2" y="1"/>
                          </a:lnTo>
                          <a:lnTo>
                            <a:pt x="1" y="3"/>
                          </a:lnTo>
                          <a:lnTo>
                            <a:pt x="0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983160" y="657900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0"/>
                          </a:move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0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>
                      <a:off x="980280" y="6580080"/>
                      <a:ext cx="43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1" y="0"/>
                          </a:moveTo>
                          <a:lnTo>
                            <a:pt x="2" y="2"/>
                          </a:lnTo>
                          <a:lnTo>
                            <a:pt x="1" y="3"/>
                          </a:lnTo>
                          <a:lnTo>
                            <a:pt x="0" y="2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>
                      <a:off x="980280" y="6581160"/>
                      <a:ext cx="28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4">
                          <a:moveTo>
                            <a:pt x="1" y="0"/>
                          </a:moveTo>
                          <a:lnTo>
                            <a:pt x="1" y="2"/>
                          </a:lnTo>
                          <a:lnTo>
                            <a:pt x="0" y="3"/>
                          </a:lnTo>
                          <a:lnTo>
                            <a:pt x="0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>
                      <a:off x="978840" y="6582240"/>
                      <a:ext cx="28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4">
                          <a:moveTo>
                            <a:pt x="1" y="0"/>
                          </a:moveTo>
                          <a:lnTo>
                            <a:pt x="1" y="2"/>
                          </a:lnTo>
                          <a:lnTo>
                            <a:pt x="0" y="3"/>
                          </a:lnTo>
                          <a:lnTo>
                            <a:pt x="0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>
                      <a:off x="975600" y="6583680"/>
                      <a:ext cx="43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1" y="0"/>
                          </a:moveTo>
                          <a:lnTo>
                            <a:pt x="2" y="2"/>
                          </a:lnTo>
                          <a:lnTo>
                            <a:pt x="1" y="3"/>
                          </a:lnTo>
                          <a:lnTo>
                            <a:pt x="0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>
                      <a:off x="975600" y="6584760"/>
                      <a:ext cx="28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4">
                          <a:moveTo>
                            <a:pt x="1" y="0"/>
                          </a:moveTo>
                          <a:lnTo>
                            <a:pt x="1" y="2"/>
                          </a:lnTo>
                          <a:lnTo>
                            <a:pt x="0" y="3"/>
                          </a:lnTo>
                          <a:lnTo>
                            <a:pt x="0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969480" y="6585840"/>
                      <a:ext cx="72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4">
                          <a:moveTo>
                            <a:pt x="3" y="0"/>
                          </a:moveTo>
                          <a:lnTo>
                            <a:pt x="4" y="2"/>
                          </a:lnTo>
                          <a:lnTo>
                            <a:pt x="3" y="3"/>
                          </a:lnTo>
                          <a:lnTo>
                            <a:pt x="2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>
                      <a:off x="969480" y="6587280"/>
                      <a:ext cx="72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3">
                          <a:moveTo>
                            <a:pt x="0" y="1"/>
                          </a:move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4" y="0"/>
                          </a:lnTo>
                          <a:lnTo>
                            <a:pt x="4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>
                      <a:off x="952920" y="6577560"/>
                      <a:ext cx="576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3">
                          <a:moveTo>
                            <a:pt x="0" y="2"/>
                          </a:moveTo>
                          <a:lnTo>
                            <a:pt x="0" y="0"/>
                          </a:lnTo>
                          <a:lnTo>
                            <a:pt x="3" y="0"/>
                          </a:lnTo>
                          <a:lnTo>
                            <a:pt x="3" y="2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956160" y="6577560"/>
                      <a:ext cx="432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2"/>
                          </a:moveTo>
                          <a:lnTo>
                            <a:pt x="0" y="0"/>
                          </a:lnTo>
                          <a:lnTo>
                            <a:pt x="2" y="0"/>
                          </a:lnTo>
                          <a:lnTo>
                            <a:pt x="2" y="2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957600" y="657648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2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959040" y="6576480"/>
                      <a:ext cx="4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2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960480" y="6576480"/>
                      <a:ext cx="288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1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961920" y="657540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0" y="2"/>
                          </a:moveTo>
                          <a:lnTo>
                            <a:pt x="0" y="1"/>
                          </a:ln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961920" y="6573960"/>
                      <a:ext cx="43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1" y="3"/>
                          </a:moveTo>
                          <a:lnTo>
                            <a:pt x="0" y="1"/>
                          </a:lnTo>
                          <a:lnTo>
                            <a:pt x="1" y="0"/>
                          </a:lnTo>
                          <a:lnTo>
                            <a:pt x="2" y="2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963720" y="6573960"/>
                      <a:ext cx="25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2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963720" y="6572880"/>
                      <a:ext cx="43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2"/>
                          </a:moveTo>
                          <a:lnTo>
                            <a:pt x="0" y="1"/>
                          </a:lnTo>
                          <a:lnTo>
                            <a:pt x="1" y="0"/>
                          </a:lnTo>
                          <a:lnTo>
                            <a:pt x="2" y="1"/>
                          </a:lnTo>
                          <a:lnTo>
                            <a:pt x="1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965160" y="6571800"/>
                      <a:ext cx="288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2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965160" y="657072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2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965160" y="6569640"/>
                      <a:ext cx="43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2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2" y="0"/>
                          </a:lnTo>
                          <a:lnTo>
                            <a:pt x="2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966600" y="656712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2"/>
                          </a:move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966600" y="656496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2"/>
                          </a:move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1" y="0"/>
                          </a:lnTo>
                          <a:lnTo>
                            <a:pt x="1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966600" y="6564960"/>
                      <a:ext cx="288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1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966600" y="656244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2"/>
                          </a:move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1" y="0"/>
                          </a:lnTo>
                          <a:lnTo>
                            <a:pt x="1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965160" y="6561360"/>
                      <a:ext cx="43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1"/>
                          </a:move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1" y="0"/>
                          </a:lnTo>
                          <a:lnTo>
                            <a:pt x="2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965160" y="6559920"/>
                      <a:ext cx="288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1"/>
                          </a:move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965160" y="655884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1"/>
                          </a:move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963720" y="6558840"/>
                      <a:ext cx="25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0"/>
                          </a:move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961920" y="6557760"/>
                      <a:ext cx="43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2" y="1"/>
                          </a:moveTo>
                          <a:lnTo>
                            <a:pt x="1" y="3"/>
                          </a:lnTo>
                          <a:lnTo>
                            <a:pt x="0" y="3"/>
                          </a:lnTo>
                          <a:lnTo>
                            <a:pt x="1" y="0"/>
                          </a:lnTo>
                          <a:lnTo>
                            <a:pt x="2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961920" y="6556680"/>
                      <a:ext cx="28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4">
                          <a:moveTo>
                            <a:pt x="1" y="1"/>
                          </a:moveTo>
                          <a:lnTo>
                            <a:pt x="1" y="3"/>
                          </a:lnTo>
                          <a:lnTo>
                            <a:pt x="0" y="3"/>
                          </a:lnTo>
                          <a:lnTo>
                            <a:pt x="0" y="0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960480" y="6556680"/>
                      <a:ext cx="28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4">
                          <a:moveTo>
                            <a:pt x="1" y="1"/>
                          </a:moveTo>
                          <a:lnTo>
                            <a:pt x="1" y="3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959040" y="6556680"/>
                      <a:ext cx="4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1"/>
                          </a:move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1" y="0"/>
                          </a:lnTo>
                          <a:lnTo>
                            <a:pt x="2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957600" y="655668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0"/>
                          </a:move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952920" y="6556680"/>
                      <a:ext cx="57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3">
                          <a:moveTo>
                            <a:pt x="3" y="0"/>
                          </a:moveTo>
                          <a:lnTo>
                            <a:pt x="3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942480" y="6556680"/>
                      <a:ext cx="11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3">
                          <a:moveTo>
                            <a:pt x="7" y="0"/>
                          </a:moveTo>
                          <a:lnTo>
                            <a:pt x="7" y="2"/>
                          </a:lnTo>
                          <a:lnTo>
                            <a:pt x="1" y="2"/>
                          </a:lnTo>
                          <a:lnTo>
                            <a:pt x="0" y="0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939240" y="6556680"/>
                      <a:ext cx="612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21">
                          <a:moveTo>
                            <a:pt x="2" y="0"/>
                          </a:moveTo>
                          <a:lnTo>
                            <a:pt x="3" y="2"/>
                          </a:lnTo>
                          <a:lnTo>
                            <a:pt x="1" y="18"/>
                          </a:lnTo>
                          <a:lnTo>
                            <a:pt x="0" y="2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939240" y="6577560"/>
                      <a:ext cx="1188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3">
                          <a:moveTo>
                            <a:pt x="0" y="2"/>
                          </a:moveTo>
                          <a:lnTo>
                            <a:pt x="1" y="0"/>
                          </a:lnTo>
                          <a:lnTo>
                            <a:pt x="7" y="0"/>
                          </a:lnTo>
                          <a:lnTo>
                            <a:pt x="7" y="2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950040" y="6577560"/>
                      <a:ext cx="2880" cy="2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640" bIns="-44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485280" y="6391080"/>
                      <a:ext cx="58680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32">
                          <a:moveTo>
                            <a:pt x="0" y="31"/>
                          </a:moveTo>
                          <a:lnTo>
                            <a:pt x="387" y="31"/>
                          </a:lnTo>
                          <a:lnTo>
                            <a:pt x="18" y="0"/>
                          </a:lnTo>
                          <a:lnTo>
                            <a:pt x="0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513000" y="6390000"/>
                      <a:ext cx="55944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0" h="33">
                          <a:moveTo>
                            <a:pt x="369" y="30"/>
                          </a:moveTo>
                          <a:lnTo>
                            <a:pt x="369" y="31"/>
                          </a:lnTo>
                          <a:lnTo>
                            <a:pt x="369" y="32"/>
                          </a:lnTo>
                          <a:lnTo>
                            <a:pt x="1" y="2"/>
                          </a:lnTo>
                          <a:lnTo>
                            <a:pt x="0" y="0"/>
                          </a:lnTo>
                          <a:lnTo>
                            <a:pt x="369" y="3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484200" y="6390000"/>
                      <a:ext cx="3132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33">
                          <a:moveTo>
                            <a:pt x="19" y="0"/>
                          </a:moveTo>
                          <a:lnTo>
                            <a:pt x="20" y="2"/>
                          </a:lnTo>
                          <a:lnTo>
                            <a:pt x="3" y="30"/>
                          </a:lnTo>
                          <a:lnTo>
                            <a:pt x="0" y="32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484200" y="6426720"/>
                      <a:ext cx="5882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" h="2">
                          <a:moveTo>
                            <a:pt x="0" y="1"/>
                          </a:moveTo>
                          <a:lnTo>
                            <a:pt x="3" y="0"/>
                          </a:lnTo>
                          <a:lnTo>
                            <a:pt x="388" y="0"/>
                          </a:lnTo>
                          <a:lnTo>
                            <a:pt x="388" y="1"/>
                          </a:lnTo>
                          <a:lnTo>
                            <a:pt x="388" y="0"/>
                          </a:lnTo>
                          <a:lnTo>
                            <a:pt x="388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524880" y="6344640"/>
                      <a:ext cx="4294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4" h="31">
                          <a:moveTo>
                            <a:pt x="0" y="30"/>
                          </a:moveTo>
                          <a:lnTo>
                            <a:pt x="283" y="30"/>
                          </a:lnTo>
                          <a:lnTo>
                            <a:pt x="19" y="0"/>
                          </a:lnTo>
                          <a:lnTo>
                            <a:pt x="0" y="3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1" name=""/>
                  <p:cNvSpPr/>
                  <p:nvPr/>
                </p:nvSpPr>
                <p:spPr>
                  <a:xfrm>
                    <a:off x="550800" y="6343560"/>
                    <a:ext cx="4039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33">
                        <a:moveTo>
                          <a:pt x="266" y="30"/>
                        </a:moveTo>
                        <a:lnTo>
                          <a:pt x="266" y="31"/>
                        </a:lnTo>
                        <a:lnTo>
                          <a:pt x="266" y="32"/>
                        </a:lnTo>
                        <a:lnTo>
                          <a:pt x="1" y="2"/>
                        </a:lnTo>
                        <a:lnTo>
                          <a:pt x="0" y="0"/>
                        </a:lnTo>
                        <a:lnTo>
                          <a:pt x="266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520560" y="6343560"/>
                    <a:ext cx="331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3">
                        <a:moveTo>
                          <a:pt x="20" y="0"/>
                        </a:moveTo>
                        <a:lnTo>
                          <a:pt x="21" y="2"/>
                        </a:lnTo>
                        <a:lnTo>
                          <a:pt x="3" y="30"/>
                        </a:lnTo>
                        <a:lnTo>
                          <a:pt x="0" y="32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562680" y="6296400"/>
                    <a:ext cx="2725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31">
                        <a:moveTo>
                          <a:pt x="0" y="30"/>
                        </a:moveTo>
                        <a:lnTo>
                          <a:pt x="179" y="30"/>
                        </a:lnTo>
                        <a:lnTo>
                          <a:pt x="19" y="0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590040" y="6295320"/>
                    <a:ext cx="24516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33">
                        <a:moveTo>
                          <a:pt x="161" y="30"/>
                        </a:moveTo>
                        <a:lnTo>
                          <a:pt x="161" y="31"/>
                        </a:lnTo>
                        <a:lnTo>
                          <a:pt x="161" y="3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61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558360" y="6295320"/>
                    <a:ext cx="331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3">
                        <a:moveTo>
                          <a:pt x="21" y="0"/>
                        </a:moveTo>
                        <a:lnTo>
                          <a:pt x="21" y="2"/>
                        </a:lnTo>
                        <a:lnTo>
                          <a:pt x="3" y="30"/>
                        </a:lnTo>
                        <a:lnTo>
                          <a:pt x="0" y="32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599040" y="6249600"/>
                    <a:ext cx="1148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0">
                        <a:moveTo>
                          <a:pt x="0" y="29"/>
                        </a:moveTo>
                        <a:lnTo>
                          <a:pt x="75" y="29"/>
                        </a:lnTo>
                        <a:lnTo>
                          <a:pt x="19" y="0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27840" y="6248520"/>
                    <a:ext cx="9360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2">
                        <a:moveTo>
                          <a:pt x="61" y="31"/>
                        </a:moveTo>
                        <a:lnTo>
                          <a:pt x="53" y="29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61" y="3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597600" y="6248520"/>
                    <a:ext cx="334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2">
                        <a:moveTo>
                          <a:pt x="21" y="0"/>
                        </a:moveTo>
                        <a:lnTo>
                          <a:pt x="21" y="2"/>
                        </a:lnTo>
                        <a:lnTo>
                          <a:pt x="3" y="29"/>
                        </a:lnTo>
                        <a:lnTo>
                          <a:pt x="0" y="31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597600" y="6282360"/>
                    <a:ext cx="124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3">
                        <a:moveTo>
                          <a:pt x="0" y="2"/>
                        </a:moveTo>
                        <a:lnTo>
                          <a:pt x="3" y="0"/>
                        </a:lnTo>
                        <a:lnTo>
                          <a:pt x="73" y="0"/>
                        </a:lnTo>
                        <a:lnTo>
                          <a:pt x="81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45920" y="6458400"/>
                    <a:ext cx="298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3">
                        <a:moveTo>
                          <a:pt x="1" y="32"/>
                        </a:moveTo>
                        <a:lnTo>
                          <a:pt x="0" y="30"/>
                        </a:lnTo>
                        <a:lnTo>
                          <a:pt x="16" y="2"/>
                        </a:lnTo>
                        <a:lnTo>
                          <a:pt x="19" y="0"/>
                        </a:lnTo>
                        <a:lnTo>
                          <a:pt x="1" y="3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332640" y="6507720"/>
                    <a:ext cx="4024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31">
                        <a:moveTo>
                          <a:pt x="265" y="0"/>
                        </a:moveTo>
                        <a:lnTo>
                          <a:pt x="0" y="0"/>
                        </a:lnTo>
                        <a:lnTo>
                          <a:pt x="247" y="30"/>
                        </a:lnTo>
                        <a:lnTo>
                          <a:pt x="26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332640" y="6506280"/>
                    <a:ext cx="37656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33">
                        <a:moveTo>
                          <a:pt x="0" y="2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47" y="30"/>
                        </a:lnTo>
                        <a:lnTo>
                          <a:pt x="248" y="3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708120" y="6506280"/>
                    <a:ext cx="302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3">
                        <a:moveTo>
                          <a:pt x="1" y="32"/>
                        </a:moveTo>
                        <a:lnTo>
                          <a:pt x="0" y="30"/>
                        </a:lnTo>
                        <a:lnTo>
                          <a:pt x="16" y="2"/>
                        </a:lnTo>
                        <a:lnTo>
                          <a:pt x="19" y="0"/>
                        </a:lnTo>
                        <a:lnTo>
                          <a:pt x="1" y="3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332640" y="6506280"/>
                    <a:ext cx="4057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3">
                        <a:moveTo>
                          <a:pt x="267" y="0"/>
                        </a:moveTo>
                        <a:lnTo>
                          <a:pt x="264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67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441720" y="6554520"/>
                    <a:ext cx="2559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31">
                        <a:moveTo>
                          <a:pt x="168" y="0"/>
                        </a:moveTo>
                        <a:lnTo>
                          <a:pt x="0" y="0"/>
                        </a:lnTo>
                        <a:lnTo>
                          <a:pt x="150" y="30"/>
                        </a:lnTo>
                        <a:lnTo>
                          <a:pt x="168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441720" y="6554520"/>
                    <a:ext cx="2286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33">
                        <a:moveTo>
                          <a:pt x="0" y="2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49" y="30"/>
                        </a:lnTo>
                        <a:lnTo>
                          <a:pt x="150" y="3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668880" y="6554520"/>
                    <a:ext cx="331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3">
                        <a:moveTo>
                          <a:pt x="1" y="32"/>
                        </a:moveTo>
                        <a:lnTo>
                          <a:pt x="0" y="30"/>
                        </a:lnTo>
                        <a:lnTo>
                          <a:pt x="18" y="2"/>
                        </a:lnTo>
                        <a:lnTo>
                          <a:pt x="21" y="0"/>
                        </a:lnTo>
                        <a:lnTo>
                          <a:pt x="1" y="3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546120" y="6602760"/>
                    <a:ext cx="113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30">
                        <a:moveTo>
                          <a:pt x="74" y="0"/>
                        </a:moveTo>
                        <a:lnTo>
                          <a:pt x="0" y="0"/>
                        </a:lnTo>
                        <a:lnTo>
                          <a:pt x="55" y="29"/>
                        </a:lnTo>
                        <a:lnTo>
                          <a:pt x="74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1240920" y="6629400"/>
                    <a:ext cx="2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1" y="3"/>
                        </a:move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1240920" y="6626160"/>
                    <a:ext cx="2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1" y="3"/>
                        </a:move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1240920" y="6621480"/>
                    <a:ext cx="25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1" y="4"/>
                        </a:move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1240920" y="6615720"/>
                    <a:ext cx="25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1240920" y="6610680"/>
                    <a:ext cx="25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2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1234800" y="6600240"/>
                    <a:ext cx="2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1231920" y="6600240"/>
                    <a:ext cx="1440" cy="1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1219680" y="6600240"/>
                    <a:ext cx="13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8" y="0"/>
                        </a:moveTo>
                        <a:lnTo>
                          <a:pt x="8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1213560" y="6600240"/>
                    <a:ext cx="90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3">
                        <a:moveTo>
                          <a:pt x="4" y="0"/>
                        </a:moveTo>
                        <a:lnTo>
                          <a:pt x="5" y="2"/>
                        </a:lnTo>
                        <a:lnTo>
                          <a:pt x="1" y="32"/>
                        </a:lnTo>
                        <a:lnTo>
                          <a:pt x="0" y="30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1186560" y="6534360"/>
                    <a:ext cx="2232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89">
                        <a:moveTo>
                          <a:pt x="2" y="86"/>
                        </a:moveTo>
                        <a:lnTo>
                          <a:pt x="0" y="88"/>
                        </a:lnTo>
                        <a:lnTo>
                          <a:pt x="13" y="0"/>
                        </a:lnTo>
                        <a:lnTo>
                          <a:pt x="14" y="2"/>
                        </a:lnTo>
                        <a:lnTo>
                          <a:pt x="2" y="86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207800" y="6534360"/>
                    <a:ext cx="450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">
                        <a:moveTo>
                          <a:pt x="1" y="2"/>
                        </a:moveTo>
                        <a:lnTo>
                          <a:pt x="0" y="0"/>
                        </a:lnTo>
                        <a:lnTo>
                          <a:pt x="29" y="0"/>
                        </a:lnTo>
                        <a:lnTo>
                          <a:pt x="29" y="2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1251360" y="6534360"/>
                    <a:ext cx="61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1256040" y="6534360"/>
                    <a:ext cx="43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1256040" y="6587280"/>
                    <a:ext cx="5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0" y="1"/>
                        </a:move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1240920" y="6577920"/>
                    <a:ext cx="43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1245600" y="6576840"/>
                    <a:ext cx="2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1251360" y="6572160"/>
                    <a:ext cx="28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2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1251360" y="657108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2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1253160" y="6561720"/>
                    <a:ext cx="10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">
                        <a:moveTo>
                          <a:pt x="0" y="1"/>
                        </a:move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1251360" y="6560280"/>
                    <a:ext cx="28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1251360" y="655920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1224360" y="6556680"/>
                    <a:ext cx="61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1">
                        <a:moveTo>
                          <a:pt x="2" y="0"/>
                        </a:moveTo>
                        <a:lnTo>
                          <a:pt x="3" y="2"/>
                        </a:lnTo>
                        <a:lnTo>
                          <a:pt x="1" y="18"/>
                        </a:lnTo>
                        <a:lnTo>
                          <a:pt x="0" y="2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1224360" y="6577920"/>
                    <a:ext cx="118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">
                        <a:moveTo>
                          <a:pt x="0" y="2"/>
                        </a:moveTo>
                        <a:lnTo>
                          <a:pt x="2" y="0"/>
                        </a:lnTo>
                        <a:lnTo>
                          <a:pt x="7" y="0"/>
                        </a:lnTo>
                        <a:lnTo>
                          <a:pt x="7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1234800" y="6577920"/>
                    <a:ext cx="4320" cy="2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300960" y="6255360"/>
                    <a:ext cx="1544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45">
                        <a:moveTo>
                          <a:pt x="51" y="0"/>
                        </a:moveTo>
                        <a:lnTo>
                          <a:pt x="44" y="48"/>
                        </a:lnTo>
                        <a:lnTo>
                          <a:pt x="18" y="17"/>
                        </a:lnTo>
                        <a:lnTo>
                          <a:pt x="34" y="60"/>
                        </a:lnTo>
                        <a:lnTo>
                          <a:pt x="0" y="62"/>
                        </a:lnTo>
                        <a:lnTo>
                          <a:pt x="31" y="79"/>
                        </a:lnTo>
                        <a:lnTo>
                          <a:pt x="6" y="111"/>
                        </a:lnTo>
                        <a:lnTo>
                          <a:pt x="38" y="96"/>
                        </a:lnTo>
                        <a:lnTo>
                          <a:pt x="33" y="144"/>
                        </a:lnTo>
                        <a:lnTo>
                          <a:pt x="51" y="103"/>
                        </a:lnTo>
                        <a:lnTo>
                          <a:pt x="68" y="144"/>
                        </a:lnTo>
                        <a:lnTo>
                          <a:pt x="63" y="96"/>
                        </a:lnTo>
                        <a:lnTo>
                          <a:pt x="95" y="111"/>
                        </a:lnTo>
                        <a:lnTo>
                          <a:pt x="70" y="79"/>
                        </a:lnTo>
                        <a:lnTo>
                          <a:pt x="101" y="62"/>
                        </a:lnTo>
                        <a:lnTo>
                          <a:pt x="67" y="60"/>
                        </a:lnTo>
                        <a:lnTo>
                          <a:pt x="83" y="17"/>
                        </a:lnTo>
                        <a:lnTo>
                          <a:pt x="57" y="48"/>
                        </a:lnTo>
                        <a:lnTo>
                          <a:pt x="5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323640" y="6271920"/>
                    <a:ext cx="453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6">
                        <a:moveTo>
                          <a:pt x="28" y="32"/>
                        </a:moveTo>
                        <a:lnTo>
                          <a:pt x="29" y="35"/>
                        </a:lnTo>
                        <a:lnTo>
                          <a:pt x="4" y="7"/>
                        </a:lnTo>
                        <a:lnTo>
                          <a:pt x="0" y="0"/>
                        </a:lnTo>
                        <a:lnTo>
                          <a:pt x="28" y="3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323640" y="6271920"/>
                    <a:ext cx="3168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8">
                        <a:moveTo>
                          <a:pt x="0" y="0"/>
                        </a:moveTo>
                        <a:lnTo>
                          <a:pt x="4" y="7"/>
                        </a:lnTo>
                        <a:lnTo>
                          <a:pt x="20" y="47"/>
                        </a:lnTo>
                        <a:lnTo>
                          <a:pt x="18" y="4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95200" y="6325560"/>
                    <a:ext cx="601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">
                        <a:moveTo>
                          <a:pt x="37" y="0"/>
                        </a:moveTo>
                        <a:lnTo>
                          <a:pt x="39" y="1"/>
                        </a:lnTo>
                        <a:lnTo>
                          <a:pt x="7" y="2"/>
                        </a:lnTo>
                        <a:lnTo>
                          <a:pt x="0" y="1"/>
                        </a:lnTo>
                        <a:lnTo>
                          <a:pt x="37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95200" y="6327000"/>
                    <a:ext cx="57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0">
                        <a:moveTo>
                          <a:pt x="0" y="0"/>
                        </a:moveTo>
                        <a:lnTo>
                          <a:pt x="7" y="2"/>
                        </a:lnTo>
                        <a:lnTo>
                          <a:pt x="37" y="19"/>
                        </a:lnTo>
                        <a:lnTo>
                          <a:pt x="34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307080" y="6348240"/>
                    <a:ext cx="4500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6">
                        <a:moveTo>
                          <a:pt x="26" y="0"/>
                        </a:moveTo>
                        <a:lnTo>
                          <a:pt x="29" y="0"/>
                        </a:lnTo>
                        <a:lnTo>
                          <a:pt x="6" y="30"/>
                        </a:lnTo>
                        <a:lnTo>
                          <a:pt x="0" y="35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307080" y="6366960"/>
                    <a:ext cx="543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0">
                        <a:moveTo>
                          <a:pt x="0" y="19"/>
                        </a:moveTo>
                        <a:lnTo>
                          <a:pt x="6" y="14"/>
                        </a:lnTo>
                        <a:lnTo>
                          <a:pt x="35" y="0"/>
                        </a:lnTo>
                        <a:lnTo>
                          <a:pt x="33" y="3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349200" y="6366960"/>
                    <a:ext cx="122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5">
                        <a:moveTo>
                          <a:pt x="5" y="3"/>
                        </a:moveTo>
                        <a:lnTo>
                          <a:pt x="7" y="0"/>
                        </a:lnTo>
                        <a:lnTo>
                          <a:pt x="2" y="45"/>
                        </a:lnTo>
                        <a:lnTo>
                          <a:pt x="0" y="54"/>
                        </a:lnTo>
                        <a:lnTo>
                          <a:pt x="5" y="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349200" y="6373800"/>
                    <a:ext cx="298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48"/>
                        </a:moveTo>
                        <a:lnTo>
                          <a:pt x="2" y="39"/>
                        </a:lnTo>
                        <a:lnTo>
                          <a:pt x="19" y="0"/>
                        </a:lnTo>
                        <a:lnTo>
                          <a:pt x="19" y="4"/>
                        </a:lnTo>
                        <a:lnTo>
                          <a:pt x="0" y="4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378000" y="6373800"/>
                    <a:ext cx="2880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16" y="39"/>
                        </a:lnTo>
                        <a:lnTo>
                          <a:pt x="18" y="48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394920" y="6366960"/>
                    <a:ext cx="11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5">
                        <a:moveTo>
                          <a:pt x="7" y="54"/>
                        </a:moveTo>
                        <a:lnTo>
                          <a:pt x="5" y="45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7" y="5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394920" y="6366960"/>
                    <a:ext cx="558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20">
                        <a:moveTo>
                          <a:pt x="2" y="3"/>
                        </a:moveTo>
                        <a:lnTo>
                          <a:pt x="0" y="0"/>
                        </a:lnTo>
                        <a:lnTo>
                          <a:pt x="30" y="14"/>
                        </a:lnTo>
                        <a:lnTo>
                          <a:pt x="36" y="19"/>
                        </a:lnTo>
                        <a:lnTo>
                          <a:pt x="2" y="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405360" y="6348240"/>
                    <a:ext cx="4536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6">
                        <a:moveTo>
                          <a:pt x="29" y="35"/>
                        </a:moveTo>
                        <a:lnTo>
                          <a:pt x="23" y="3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29" y="3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405360" y="6327000"/>
                    <a:ext cx="52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0">
                        <a:moveTo>
                          <a:pt x="2" y="19"/>
                        </a:moveTo>
                        <a:lnTo>
                          <a:pt x="0" y="19"/>
                        </a:lnTo>
                        <a:lnTo>
                          <a:pt x="28" y="2"/>
                        </a:lnTo>
                        <a:lnTo>
                          <a:pt x="34" y="0"/>
                        </a:lnTo>
                        <a:lnTo>
                          <a:pt x="2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400680" y="6325560"/>
                    <a:ext cx="57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">
                        <a:moveTo>
                          <a:pt x="37" y="1"/>
                        </a:moveTo>
                        <a:lnTo>
                          <a:pt x="30" y="2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37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400680" y="6271920"/>
                    <a:ext cx="3168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8">
                        <a:moveTo>
                          <a:pt x="2" y="45"/>
                        </a:moveTo>
                        <a:lnTo>
                          <a:pt x="0" y="47"/>
                        </a:lnTo>
                        <a:lnTo>
                          <a:pt x="16" y="7"/>
                        </a:lnTo>
                        <a:lnTo>
                          <a:pt x="20" y="0"/>
                        </a:lnTo>
                        <a:lnTo>
                          <a:pt x="2" y="4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387360" y="6271920"/>
                    <a:ext cx="45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6">
                        <a:moveTo>
                          <a:pt x="29" y="0"/>
                        </a:moveTo>
                        <a:lnTo>
                          <a:pt x="25" y="7"/>
                        </a:lnTo>
                        <a:lnTo>
                          <a:pt x="0" y="35"/>
                        </a:lnTo>
                        <a:lnTo>
                          <a:pt x="1" y="32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378000" y="6250680"/>
                    <a:ext cx="1188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4">
                        <a:moveTo>
                          <a:pt x="7" y="50"/>
                        </a:moveTo>
                        <a:lnTo>
                          <a:pt x="6" y="53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7" y="5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367560" y="6250680"/>
                    <a:ext cx="1188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4">
                        <a:moveTo>
                          <a:pt x="7" y="0"/>
                        </a:moveTo>
                        <a:lnTo>
                          <a:pt x="7" y="9"/>
                        </a:lnTo>
                        <a:lnTo>
                          <a:pt x="1" y="53"/>
                        </a:lnTo>
                        <a:lnTo>
                          <a:pt x="0" y="50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7467480" y="2209680"/>
            <a:ext cx="1314720" cy="178776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2286000" y="5334120"/>
            <a:ext cx="472428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озможный объем продаж нового ЛС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 год – до 13 млрд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$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ipitor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 месяц –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лрд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533520" y="990720"/>
          <a:ext cx="7010280" cy="3998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990720"/>
                    <a:ext cx="701028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"/>
          <p:cNvSpPr/>
          <p:nvPr/>
        </p:nvSpPr>
        <p:spPr>
          <a:xfrm>
            <a:off x="990720" y="472428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ource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J.A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 Masi and H.G. Grabowski, ‘The Cost of Biopharmaceutical R&amp;D: Is Biotech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?’, Managerial and Decision Economics 28 (2007): 469-479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EFC4-630A-490E-96F1-3D619729EE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304920" y="1447920"/>
          <a:ext cx="8501040" cy="457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50104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"/>
          <p:cNvSpPr/>
          <p:nvPr/>
        </p:nvSpPr>
        <p:spPr>
          <a:xfrm>
            <a:off x="380880" y="6035760"/>
            <a:ext cx="845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relate to the top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0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ompanies with registered offices in the 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, Japan, the USA and the Res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anked by the size of their R&amp;D investments (over € 24.21 mi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ource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2008 EU Industrial R&amp;D Investment Scoreboard, European Commission, JRC/DG R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905120" y="0"/>
            <a:ext cx="7238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нвестиции в разработку ЛС</a:t>
            </a: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от товарооборота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дущие</a:t>
            </a:r>
            <a:r>
              <a:rPr b="1" lang="fr-B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ировые </a:t>
            </a:r>
            <a:r>
              <a:rPr b="1" lang="fr-BE" sz="2400" spc="-1" strike="noStrike">
                <a:solidFill>
                  <a:srgbClr val="333399"/>
                </a:solidFill>
                <a:latin typeface="Arial"/>
              </a:rPr>
              <a:t>1402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мпании </a:t>
            </a:r>
            <a:r>
              <a:rPr b="1" lang="fr-BE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6DF-DBF5-4904-88FE-3E4DF4AB6A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ыводы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асть 1: разработка ЛС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зработка ЛС – это процесс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олгий (10-15 лет),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ложный (1 ЛС из 10000 молекул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орогостоящий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1,3 млрд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$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линические исследования (КИ) – это этап разработки ЛС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амый долгий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&gt; 5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ет)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амый дорогостоящий (50% от всех инвестиций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зработка новых ЛС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зволяет продлить жизнь и улучшить ее качество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иносит большую прибыль фармацевтическим компаниям                               (до 13 млрд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$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в год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6E70-C26C-4E5E-A42C-4EA2B80B3B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 такое клиническое исследование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юбое исследование с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участием человека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в качестве его субъекта для выявления или подтверждения 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линических и/или фармакологических эффектов исследуемых продуктов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/или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ыявления нежелательных реакций на исследуемые продукты,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/или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зучения их  всасывания, распределения, метаболизма и выведения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целью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ценить их безопасность и эффективность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nternational Conference on Harmonization, E6 Good Clinical Practice, a.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Национальный стандарт РФ, ГОСТ Р 52379-2005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«Надлежащая Клиническая Практика»,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.1.18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A509-5B6B-4D4E-8B2F-48B047B541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ыводы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асть 2: К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686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линические исследования – это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сследования с участием человека для подтверждения эффективности и безопасности ИП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иболее достоверные данные получают в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равнительных двойных-слепых рандомизированных КИ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уществует 4 фазы КИ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егистрация ЛС осуществляется после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II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азы КИ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оведение КИ тщательно контролируется путем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ониторинга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Аудита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нспекций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новные задачи участников КИ - обеспечить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облюдение прав и благополучие пациентов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остоверность и точность данных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заимодействие всех сторон необходимо для успеха КИ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E2E-E454-4CD1-862C-40946EF0FF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ыводы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асть 3: География К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л-во инициируемых КИ в мире постоянно растет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 5 раз с 1990 по 2007гг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98440" indent="-29844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новными регионами для проведения КИ являются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ША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50% всех КИ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Европа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(&gt;23%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сех КИ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98440" indent="-29844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реди стран СНГ лидерами по кол-ву КИ являются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оссия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68% всех КИ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краина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(&gt;2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%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сех КИ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98440" indent="-29844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оссия – привлекательная страна для проведения КИ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Эффективный набор пациентов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облюдение прав пациентов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ысокое качество данных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изкая  стоимость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4FA-B1A6-4DA5-9A18-B1995EDB8D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ыводы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асть 4: Анализ КИ в РФ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л-во КИ в РФ постоянно растет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 2 раза за последние 5 лет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РФ превалируют (на примере 2008г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еждународные КИ (59%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И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II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фазы (53%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рганизованные зарубежными спонсорами (67%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иболее часто КИ проводятся у пациентов с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овообразованиями (15%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Болезнями органов кровообращения (14%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новные регионы для проведения КИ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осква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200 исследовательских центров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анкт-Петербург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130 исследовательских центров)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457-AEFB-47BB-A1A2-82355FAA8D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7:42:46Z</dcterms:created>
  <dc:creator>ламо 1</dc:creator>
  <dc:description/>
  <dc:language>en-US</dc:language>
  <cp:lastModifiedBy>lazarev</cp:lastModifiedBy>
  <dcterms:modified xsi:type="dcterms:W3CDTF">2009-11-12T15:25:01Z</dcterms:modified>
  <cp:revision>54</cp:revision>
  <dc:subject/>
  <dc:title>Заголовок слайда</dc:title>
</cp:coreProperties>
</file>