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830-4478-4D24-97B1-E504B2A1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BB7-0094-4919-B33B-AADCD349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4A7-04E9-48B7-9596-B4F39918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206-7559-481B-9075-93E4C2E8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EE6-D627-47C5-9FFF-EDC258F8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6BA-C4E0-424D-B1B4-2AC989E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484-8543-4FBB-9D05-E9680D26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DA4-C729-47C8-827D-56A068A5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DF8-CDD8-4E06-8717-7A39B076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399-F106-4EA4-9EBE-3370773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D3A-0EEB-4FCB-80BE-427D5343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AE5-760C-4513-B4E0-B7F21DAE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ACB0-C54B-48CC-87E4-9260C3913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96720" y="357120"/>
            <a:ext cx="1295280" cy="986400"/>
            <a:chOff x="396720" y="357120"/>
            <a:chExt cx="1295280" cy="98640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396720" y="357120"/>
              <a:ext cx="12952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69880" y="1036440"/>
              <a:ext cx="82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IP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1050480"/>
            <a:ext cx="75614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Лекция 3</a:t>
            </a:r>
            <a:br>
              <a:rPr sz="36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Часть 1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линические исследования как неотъемлемый компонент создания инновационных лекарственных средств: российское и зарубежное законодательство и  правоприменительная практика в области клинических исследовани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000" y="1630080"/>
            <a:ext cx="8280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5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правка Дюрхама-Хамфри (Durham-Humphrey Amendment) – разделение рецептурных и безрецептурных Л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6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сле талидомидной катастрофы - поправка Кефовера-Харриса (Kefauver-Harris Drug Amendments) к Закону о пищевых продуктах, косметических и лекарственных средст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42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казательства не только безопасности, но и эффе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42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конодательно введено информированное 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42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ача сведения о нежелательных я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0">
              <a:lnSpc>
                <a:spcPts val="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98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правка Ваксмана-Хатча (Drug Price Competition and Patent Term Restoration Act - Hatch-Waxman 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42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прощенное одобрение воспроизведенных (генерических) лекарствен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7240" indent="-42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становление срока эксклюзивности данных и продление срока эксклюзивности при получении данных о новых популяциях пациентов как поощрение производителя инновационного Л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417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аконодательство США в области клинических исследований (3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417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аконодательство Японии в области клинических исследований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дательство Японии по ЛС состоит из 9 законов, основным является с 194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eutical Affairs La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дикально переработанный в 1948 и 1960 году. Этот закон также дополнялся несколько раз в отношении клинических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97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ребования к спонсорам КИ для иностранных фармпроизв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98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ические и научные стандарты проведения 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адапт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Good Clinical practic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се исследования, включая постмаркетинг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здание системы для КИ, инициированных врачами и медицинскими учреждениями, совершенствование стандартов проведения 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4 -  упрощение регистрации, допустимость иностранных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держание лекции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краткая история открытия лекарствен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волюция этических принципов, применимых в клинических исследова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волюция законодательства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волюция законодательства в Евро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волюция законодательства в Яп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монизация законодательства в стран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ое законодательство в области клинических исслед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лидомидная катастрофа оказала огромное воздействие на развитие законодательства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00720" y="3833640"/>
            <a:ext cx="2448000" cy="168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1600200"/>
            <a:ext cx="8291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идомид продавался почти в 50 странах как седативное средство для облегчения и средства против тошноты для беременных женщин с 1957 по 1961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240" indent="-399240">
              <a:lnSpc>
                <a:spcPct val="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240" indent="-39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клинические исследования не выявили токсических эфф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240" indent="-399240">
              <a:lnSpc>
                <a:spcPct val="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240" indent="-39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линические исследования»  – отзывы врачей после применения образцов не зарегистрированного лек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240" indent="-399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141720"/>
            <a:ext cx="5554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94560" indent="-3945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4560" indent="-39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тралийский врач д-р Макбрайд  заподозрил тератогенное действие  талидомида и  опубликовал письмо в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c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4560" indent="-394560">
              <a:lnSpc>
                <a:spcPct val="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4560" indent="-39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идомид вызывает пороки развития при приеме матерью на сроке между 35 и 49 днями берем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4560" indent="-394560">
              <a:lnSpc>
                <a:spcPts val="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4560" indent="-39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956 по 1962 год более 10 000 детей от матерей, принимавших талидомид во время беременности, появились на свет с врожденными пороками развития (фокомелия - недоразвитие или отсутствие конечност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774160" y="333360"/>
            <a:ext cx="2424600" cy="6192360"/>
            <a:chOff x="2774160" y="333360"/>
            <a:chExt cx="2424600" cy="6192360"/>
          </a:xfrm>
        </p:grpSpPr>
        <p:sp>
          <p:nvSpPr>
            <p:cNvPr id="52" name=""/>
            <p:cNvSpPr/>
            <p:nvPr/>
          </p:nvSpPr>
          <p:spPr>
            <a:xfrm>
              <a:off x="2801160" y="887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0560" y="1125360"/>
              <a:ext cx="0" cy="511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19280" y="10526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90560" y="7646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490560" y="61653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45000" y="849240"/>
              <a:ext cx="106632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З. о контроле  над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биологическими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препаратам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95200" y="33336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74160" y="14065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60840" y="1312920"/>
              <a:ext cx="111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З. о чистых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продуктах питания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и лекарственных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средства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19280" y="15573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01160" y="2054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93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2560" y="1968480"/>
              <a:ext cx="154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 Narrow"/>
                </a:rPr>
                <a:t>З. о пищевых продуктах,</a:t>
              </a:r>
              <a:br>
                <a:rPr sz="1000"/>
              </a:br>
              <a:r>
                <a:rPr b="1" lang="en-US" sz="1000" spc="-1" strike="noStrike">
                  <a:solidFill>
                    <a:srgbClr val="ff0000"/>
                  </a:solidFill>
                  <a:latin typeface="Arial Narrow"/>
                </a:rPr>
                <a:t>косметических и </a:t>
              </a:r>
              <a:br>
                <a:rPr sz="1000"/>
              </a:br>
              <a:r>
                <a:rPr b="1" lang="en-US" sz="1000" spc="-1" strike="noStrike">
                  <a:solidFill>
                    <a:srgbClr val="ff0000"/>
                  </a:solidFill>
                  <a:latin typeface="Arial Narrow"/>
                </a:rPr>
                <a:t>лекарственных средства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19280" y="22226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74160" y="29685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89560" y="302112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Поправка </a:t>
              </a:r>
              <a:br>
                <a:rPr sz="1000"/>
              </a:b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Кефовера-Харрис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280" y="311940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4160" y="3860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74440" y="391320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Поправка </a:t>
              </a:r>
              <a:br>
                <a:rPr sz="1000"/>
              </a:b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Ваксмана-Хатч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19280" y="401148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0560" y="4340160"/>
              <a:ext cx="122580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Орфанные лекарств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Создание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edWatch</a:t>
              </a:r>
              <a:br>
                <a:rPr sz="1000"/>
              </a:b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фармаконадз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Ускоренное одобре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Создание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inicalTraisl.g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Педиатрические </a:t>
              </a:r>
              <a:br>
                <a:rPr sz="1000"/>
              </a:b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закон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22160" y="331920"/>
            <a:ext cx="1948680" cy="6192360"/>
            <a:chOff x="5222160" y="331920"/>
            <a:chExt cx="1948680" cy="6192360"/>
          </a:xfrm>
        </p:grpSpPr>
        <p:sp>
          <p:nvSpPr>
            <p:cNvPr id="73" name=""/>
            <p:cNvSpPr/>
            <p:nvPr/>
          </p:nvSpPr>
          <p:spPr>
            <a:xfrm>
              <a:off x="5938560" y="1123920"/>
              <a:ext cx="0" cy="51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938560" y="76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938560" y="61639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42120" y="33192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Евро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22160" y="30160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57000" y="3068640"/>
              <a:ext cx="977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Директива 65/6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67280" y="321300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22160" y="33577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57360" y="3397320"/>
              <a:ext cx="11134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Директивы 755/318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75/3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7280" y="355428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22160" y="41497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57360" y="4189320"/>
              <a:ext cx="11134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Директивы 2309/93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93/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43466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22160" y="47530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38280" y="4792680"/>
              <a:ext cx="7293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0000"/>
                  </a:solidFill>
                  <a:latin typeface="Arial Narrow"/>
                </a:rPr>
                <a:t>Директива</a:t>
              </a:r>
              <a:br>
                <a:rPr sz="1000"/>
              </a:br>
              <a:r>
                <a:rPr b="0" lang="en-US" sz="1000" spc="-1" strike="noStrike">
                  <a:solidFill>
                    <a:srgbClr val="ff0000"/>
                  </a:solidFill>
                  <a:latin typeface="Arial Narrow"/>
                </a:rPr>
                <a:t>2001/20/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7280" y="495000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30080" y="5040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39720" y="5079960"/>
              <a:ext cx="7293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Директив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2005/28/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75200" y="523728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2556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71240" y="333360"/>
            <a:ext cx="2337120" cy="6190920"/>
            <a:chOff x="471240" y="333360"/>
            <a:chExt cx="2337120" cy="6190920"/>
          </a:xfrm>
        </p:grpSpPr>
        <p:sp>
          <p:nvSpPr>
            <p:cNvPr id="94" name=""/>
            <p:cNvSpPr/>
            <p:nvPr/>
          </p:nvSpPr>
          <p:spPr>
            <a:xfrm>
              <a:off x="1311480" y="1123920"/>
              <a:ext cx="0" cy="51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297080" y="8362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311480" y="61639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1240" y="333360"/>
              <a:ext cx="1758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тические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6920" y="21970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51520" y="2249640"/>
              <a:ext cx="87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Нюрнбергский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кодек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9840" y="239400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080" y="29527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8280" y="2992320"/>
              <a:ext cx="8467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Хельсинкская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декларац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39840" y="314964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5080" y="3500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5400" y="3540240"/>
              <a:ext cx="8161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Белмонтский</a:t>
              </a:r>
              <a:br>
                <a:rPr sz="1000"/>
              </a:b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Докла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39840" y="369720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92480" y="4268880"/>
              <a:ext cx="1415880" cy="16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Последующие </a:t>
              </a:r>
              <a:br>
                <a:rPr sz="1000"/>
              </a:b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пересмотры</a:t>
              </a:r>
              <a:br>
                <a:rPr sz="1000"/>
              </a:b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Хельсинкско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Декларации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1975 – Токи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1983 – Венец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1989 – Гонкон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1996 -  Сомерсет Уе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2000 – Эдинбур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2002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N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 –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Вашингто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2004 С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 – Токи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2008 - Сеу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5600" y="3816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87160" y="3855960"/>
              <a:ext cx="10310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Руководство ВО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и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IO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60720" y="401328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rot="16200000">
            <a:off x="5147280" y="2493000"/>
            <a:ext cx="1368720" cy="5830920"/>
          </a:xfrm>
          <a:custGeom>
            <a:avLst/>
            <a:gdLst>
              <a:gd name="textAreaLeft" fmla="*/ 874440 w 1368720"/>
              <a:gd name="textAreaRight" fmla="*/ 1369080 w 1368720"/>
              <a:gd name="textAreaTop" fmla="*/ 151920 h 5830920"/>
              <a:gd name="textAreaBottom" fmla="*/ 5679000 h 583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61"/>
                </a:lnTo>
                <a:cubicBezTo>
                  <a:pt x="10800" y="9261"/>
                  <a:pt x="5400" y="10161"/>
                  <a:pt x="0" y="10161"/>
                </a:cubicBezTo>
                <a:cubicBezTo>
                  <a:pt x="5400" y="10161"/>
                  <a:pt x="10800" y="11061"/>
                  <a:pt x="10800" y="1196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7440" y="601488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рмонизация законод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591240" y="333360"/>
            <a:ext cx="2468160" cy="6197040"/>
            <a:chOff x="6591240" y="333360"/>
            <a:chExt cx="2468160" cy="6197040"/>
          </a:xfrm>
        </p:grpSpPr>
        <p:sp>
          <p:nvSpPr>
            <p:cNvPr id="114" name=""/>
            <p:cNvSpPr/>
            <p:nvPr/>
          </p:nvSpPr>
          <p:spPr>
            <a:xfrm>
              <a:off x="7850160" y="1125360"/>
              <a:ext cx="0" cy="511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850160" y="7646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850160" y="61653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2280" y="333360"/>
              <a:ext cx="13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Япо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91240" y="219852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43,19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92720" y="2251080"/>
              <a:ext cx="99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З. об обращении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лекарст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8880" y="23954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33760" y="28796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85880" y="2919240"/>
              <a:ext cx="9014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Пересмотр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- безопас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8880" y="30765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3760" y="3573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89120" y="3613320"/>
              <a:ext cx="86508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Пересмотр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- клинические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исследов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78880" y="377028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7240" y="5013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25120" y="5052960"/>
              <a:ext cx="1034280" cy="14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Пересмотр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- упрощение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импорта и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производства,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допуск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иностранных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клинических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данных – больше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исследований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12000" y="521028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7240" y="4040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4960" y="4079880"/>
              <a:ext cx="7203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Стандарты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12000" y="423720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0520" y="44370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68240" y="4476600"/>
              <a:ext cx="7034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Адаптация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ICH GCP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5640" y="463392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ические принципы проведени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линических исследований (1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640" y="1414440"/>
            <a:ext cx="8253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юрнбергский кодек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вый международный доку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46 год – суд над врача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цис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этических принцип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иментов с участие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ей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ое согласие,  отсутствие прину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льза дл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основе пре-клинических данных, научного об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сключить ненужное физическое и психические 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льзя проводить, если есть риск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епень риска не должна превышать ту, которая определяет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уманитарной важностью ц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декватная подготовка и условия для снижения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одит только научно квалифицированные вр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астник может в любое время прек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рач должен быть готов в любое время прекратить экспер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75640" y="1862280"/>
            <a:ext cx="1800000" cy="135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3068640"/>
            <a:ext cx="64908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137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964 - принята Хельсинкская декларация Всемирной медицинской ассоциации, 6 пересмотров (1975, 1983, 1989, 1996, 2000 с 2 пояснениями от 2002 и 2004 год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 параграфам 29 и 30, 200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звила принципы Нюрнбергского кодекса, связала их с Женевской декларацией врачей 1948 го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ение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самоопределение и право на информирован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и врача-исследователя ТОЛЬКО перед участн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необходимости проведения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ние интересов участника над интересами общества и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соображения всегда должны преобладать над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интересов уязвимых групп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участник не способен дать согласие (ребенок, физически или психически некомпетентен) – суррогатное согласие от человека, действующего в интересах учас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в этом случае нужно получить мнение, если это возмо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перационные принцип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исследования должны быть научно обоснов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ая оценка рисков и поль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умная вероятность пользы для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 и тренированные  исследов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одобрены этическим комит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должен обсуждать этически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, если первичная оценка рисков и пользы недействитель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б исследовании публично доступ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кация результатов и конфликта интере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ждение терапии после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лучшие методы для сравнен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использования плаце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93080" y="5157720"/>
            <a:ext cx="1728720" cy="9874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ические принципы проведени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линических исследований (2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04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скиджийское исследование натурального течения сифилиса (1932 – 1972) у 400 чернокожих издольщиков в Алаба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74 – Национальная комиссия для защиты людей - участников биомедицинских и поведенческих исслед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79 -  Белмонтский докл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важение автономии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ированное согласие (информаци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, добровольное согласие), участники со сниженной степенью автономии должны иметь дополнительную защи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neficience /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лагово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рисков и пользы, максимиза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нциальной пользы, миним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нциального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раведлив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ора участник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распределения и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Белмонтского доклада в 1981 были созданы часть 21 Свода федеральных законов США  - разделы 50 (защита прав участников) и 56 (этический комит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78680" y="4292640"/>
            <a:ext cx="1093680" cy="1224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92360" y="44280"/>
            <a:ext cx="699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ические принципы проведени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линических исследований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04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Ethical Guidelines for Biomedical Research Involving Human Subject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- руководств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cil for International Organizations of Medical Sciences (CIOMS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рганизации, созданной ВОЗ и ЮНЕС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первые созданное в 1982 году (15 пунктов) руководство обновлялось в 1993 и 2002 года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1 пунк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этические принципы – уважение личности (уважение автономии и защита лиц со сниженной автономией)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ficence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воле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maleficience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реди), справедлив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ства – этическое обоснование и научная валидность, одобрение этическими комитетами (+ функции ЭК), этическое одобрение иностранных исследований, информированное согласие, получение ИС (+элементы ИС), обязательства спонсора, возмещение расходов участникам, польза и риск от участия, ограничения риска при неспособности ИС, исследования в бедных странах, выбор группы сравнения, равное распределение рисков и пользы, уязвимые участники, педиатрические исследования, психические больные участники, участники – женщины,  беременные женщины, конфиденциальность, право на лечение и компенсацию вреда, увеличение возможностей проведения клинических исследований в бедных странах, этические обязательства спонсора КИ в бедных стр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44280"/>
            <a:ext cx="699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Этические принципы проведени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линических исследований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885080" y="1557360"/>
            <a:ext cx="10764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417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чень краткая история открытия лекарств (1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 веке Парацельс говорил, что единственная разница между ядом и лекарством – это д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19 века – выделены из сырья салициловая кислота, хинидин, дигиталис, кокаин, 1883 – первое синтетическое лекарство антипи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рное развитие микробиологии - 1885 - вакцина от бе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20 века – концепция «магической пули», Сальварсан – рождение химиотерап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1 – очищен инсулин, 1928 – открыт пенициллин, 1933 – синтезирована аскорбиновая кислота, 1935 – синтезирован тестостер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5 – Пронтозил – сульфанила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40+ – началось десятилетние антибиотиков (пенициллин, стрептомицин, тетрациклин, цефалоспор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40 – варфар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48 – метотрексат для лечения лейке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50-е – кортизон, ингибиторы МАО (лечение психозов), тиазидные диуретики, галотан, торазин, интерферон, галоперид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58 – НАЧАЛО ПРОДАЖ ТАЛИДОМИДА (седативный препар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7:42:46Z</dcterms:created>
  <dc:creator>ламо 1</dc:creator>
  <dc:description/>
  <dc:language>en-US</dc:language>
  <cp:lastModifiedBy>lazarev</cp:lastModifiedBy>
  <dcterms:modified xsi:type="dcterms:W3CDTF">2009-11-12T15:27:15Z</dcterms:modified>
  <cp:revision>22</cp:revision>
  <dc:subject/>
  <dc:title>Заголовок слайда</dc:title>
</cp:coreProperties>
</file>